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png" ContentType="image/png"/>
  <Override PartName="/ppt/media/image30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56.png" ContentType="image/png"/>
  <Override PartName="/ppt/media/image16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0.wmf" ContentType="image/x-wmf"/>
  <Override PartName="/ppt/media/image18.wmf" ContentType="image/x-wmf"/>
  <Override PartName="/ppt/media/image5.jpeg" ContentType="image/jpeg"/>
  <Override PartName="/ppt/media/image11.wmf" ContentType="image/x-wmf"/>
  <Override PartName="/ppt/media/image48.wmf" ContentType="image/x-wmf"/>
  <Override PartName="/ppt/media/image9.wmf" ContentType="image/x-wmf"/>
  <Override PartName="/ppt/media/image41.png" ContentType="image/png"/>
  <Override PartName="/ppt/media/image14.wmf" ContentType="image/x-wmf"/>
  <Override PartName="/ppt/media/image6.png" ContentType="image/png"/>
  <Override PartName="/ppt/media/image28.jpeg" ContentType="image/jpeg"/>
  <Override PartName="/ppt/media/image7.jpeg" ContentType="image/jpeg"/>
  <Override PartName="/ppt/media/image31.wmf" ContentType="image/x-wmf"/>
  <Override PartName="/ppt/media/image25.png" ContentType="image/png"/>
  <Override PartName="/ppt/media/image37.png" ContentType="image/png"/>
  <Override PartName="/ppt/media/image40.wmf" ContentType="image/x-wmf"/>
  <Override PartName="/ppt/media/image39.png" ContentType="image/png"/>
  <Override PartName="/ppt/media/image44.wmf" ContentType="image/x-wmf"/>
  <Override PartName="/ppt/media/image45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46.wmf" ContentType="image/x-wmf"/>
  <Override PartName="/ppt/media/image26.png" ContentType="image/png"/>
  <Override PartName="/ppt/media/image49.wmf" ContentType="image/x-wmf"/>
  <Override PartName="/ppt/media/image51.wmf" ContentType="image/x-wmf"/>
  <Override PartName="/ppt/media/image42.png" ContentType="image/png"/>
  <Override PartName="/ppt/media/image53.wmf" ContentType="image/x-wmf"/>
  <Override PartName="/ppt/media/image3.png" ContentType="image/png"/>
  <Override PartName="/ppt/media/image33.png" ContentType="image/png"/>
  <Override PartName="/ppt/media/image43.png" ContentType="image/png"/>
  <Override PartName="/ppt/media/image54.wmf" ContentType="image/x-wmf"/>
  <Override PartName="/ppt/media/image55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13.wmf" ContentType="image/x-wmf"/>
  <Override PartName="/ppt/media/image8.jpeg" ContentType="image/jpeg"/>
  <Override PartName="/ppt/media/image12.png" ContentType="image/png"/>
  <Override PartName="/ppt/media/image52.wmf" ContentType="image/x-wmf"/>
  <Override PartName="/ppt/media/image10.wmf" ContentType="image/x-wmf"/>
  <Override PartName="/ppt/media/image47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B22-3B7D-4A67-B569-5AA5E2AF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E4B-EB7A-4F34-ADBA-FB9FC8F3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CCF2A-3BCC-43EA-A8B9-1CD2A495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08F1C-64BD-485D-9834-DA0E6137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D4F08-B359-40AD-B4AB-EEE0F30A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4A4BB-9018-455D-8C4E-851DE020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CA609-0FC8-4ED3-926D-C22538B0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BE96D-17B3-4433-9CD3-D7E5F089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96F93-1F55-4449-A079-6F33987D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93528-9195-4006-A8F9-788F951D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C9035-D26E-4366-9A2D-32F30463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6E1AD-D953-4BBD-8AE6-E3A53BDF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C07-A67C-492D-B5E4-673421C5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74BD1-772B-4CC8-B501-F2D82609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16968-ADD4-4B8C-B238-A866C929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59F12-E873-463B-AC3F-DF216167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FFF18-2154-42EE-9767-6280D42E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8E5EA-826B-49AB-9312-2A16A986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7D34B-BBA1-4299-90AA-179D720D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A14A7-6467-425B-86B7-02D37664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94767-3ED9-46C6-B85D-8F7E73AC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D4BB8-44F3-4A9B-8889-E2E42FC8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ED254-16B9-4ACF-8B04-23836343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7E8B-127B-4F7F-BFD5-76DB20E9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8F575-C210-4055-9C7A-AAA95534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65920-BC82-452A-9C42-289BD6FB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09FE8-0D08-4B34-9604-A8A3CDEA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D9BC2-896B-44B0-8BF5-93C60D7B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E6DA2-2D5D-47E7-96CA-5080530C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81CFA-A504-40A0-A81F-B90769DE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79030-7D38-4C2D-8E8F-6D435F7E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63EED-4DDC-40DE-894C-2D34310C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69569-F285-45FB-8BA0-0B7D0A12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45C6C-5DA0-4860-BB95-8D617003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D953-7750-44BC-9FF2-8837509E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59A24-6F45-46F4-A6D3-C3938DD0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0D51C-BF2A-4AE5-80E3-1AEF25C5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ADE24-57A0-4737-BC44-BD11CFCE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C3D57-B305-44B9-BD1B-42496585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43E34-7110-4C3D-9FC3-56E935B0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A8372-7EA7-4EE6-83EB-E3DCB282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55A0D-3655-47CF-A2EE-0834EFBD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FDD5C-CB1E-4BBE-994E-F95E1A53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63D48-2824-4094-943B-90AA05B8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25623-5461-430D-BD43-7C6C328B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0F9D-D65E-4094-8794-819D961C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E6E7F-F4C7-46E5-B6E1-B7D83DE9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01083-BA75-440A-8FF2-98F760BC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5513D-1960-40DD-B225-DB05C96B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497E9-CD4F-4A0D-9F3F-7C0256CF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CD714-7FB4-463A-B0F3-A44D54F7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23132-E3CB-400A-8204-D899614D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4CF97-C3EC-440B-A1B7-481C44EA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4AA7B-C9BD-4780-9777-CC5C46CE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C4F4F-6C9C-467A-A599-EC1E0A6B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C796E-392E-4CDB-957D-E7E3B922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BAF5-80EF-4603-8D55-30F955C2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A59BE-E644-4FCA-ADD0-17AB0765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5DDB9-DAF9-4C03-B64A-36C775BE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73573-CAD6-40B7-B4FD-5C1D4156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27194E-4F1D-4A2F-9043-EBA64E42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4789C-6A62-4EC9-8A18-80AC160D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CA6BC-618E-4C0A-AC1B-9B3B7200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5B769-7271-40CB-B830-2C52CD9A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8C2C5-A684-4AE3-937B-60D610F5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FF92B-00A1-402B-8111-80F3EECA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91C5D-DB08-4AAA-908A-FF12116D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1BE9-65DF-4606-AEE4-EDB2301D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78BDA-6A0C-4F83-8A24-D48FEEB6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F3ED7-C506-4B88-8298-031C90D4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C02E1E-CFBE-4996-95E9-D963F84C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7C907A-BB36-4DE9-8510-E443AD0F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C2A4C-3278-407A-8480-D62FE09D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0B45D-5EC2-42FC-B3A5-4470A02A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95B09-3AAE-4CAC-BBEC-55D18FAF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0F2E41-959E-4FAC-846D-C5BD6B31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CDBDE-420F-4F27-937D-2365D297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8F9F71-2DD9-4E5C-9E12-BD61436B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4F18-1868-439F-BA91-C84341C3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E2FA29-E43C-462E-8A73-6F6BE45F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5CF122-13B1-4285-BEB4-D5DBF6E9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EE3F0A-CDE1-42AF-BC2E-DA09A90D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2F59A8-1D19-44C9-9D58-BB62D613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CB03D3-E973-43AB-ADDE-9D1FB985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0A1A1D-6138-485D-BAB3-09AE35E4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58A04B-E16B-49CA-993B-DE69BAD4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BC4464-DF92-4E2B-8491-B47318C0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E74A7D-5B25-4761-B15E-93D939DA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9B383-EADE-4596-BBC6-0209D377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5E60-2E86-4F18-AA83-5CA9925D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0C576B-3EAC-46DE-AAF9-09721FF2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9DC0-810B-4B52-9946-E023B26B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33FC-A8B1-474D-8ACD-E4579768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3178-5304-44A5-A68E-DDB07614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7B00-38C6-4A46-B547-433EA215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D3E2-0C9E-41A6-9943-351587E6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5636-9B4D-4502-8534-9FB324BC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9553-2C52-4142-8A28-2DF28E78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37B97-DC08-4198-8655-1F9E3A72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CC85B-A6CE-4968-B684-015B6220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07CDA-00F2-46E9-8CB7-2C4CD0A0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A28BE-35F2-493E-953A-F8630C8D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4A5D5-F09E-460B-B3DC-F8A3D5C1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AB80-D046-461F-A212-2FE739D4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C770A-0521-4F20-A6B8-26B41CD6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51CE9-6F7B-4980-AC40-1EACD2C6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37153-7E4D-455C-8C98-B78E52A9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39959-50BD-4348-AF69-775A3B2F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27EDE-7FB4-42EF-9B56-3B368946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97F3E-FCCF-4BE9-ABEC-3ED72101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90ECB-D704-419E-9720-A9D52D2B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4134F-234F-431E-9963-F503170D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7802D-5E22-4B23-B62D-EE6D5F25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8AE03-E46D-46AB-A0C3-33FD6C89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910-5444-49A0-8F18-51D11833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BA99B-2CDC-495F-B749-4A0D8E7C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1D7A0-47E3-41C8-8A6F-81826B12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0B236-1567-44D5-A375-50138AD0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0E66B-511D-40A2-807D-98E8E2A1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3D5C3-E17F-4A89-9EFC-032B9310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63345-5C5D-46C5-9389-1AC4A38D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C7637-AB41-494F-8AD9-9D6F1DFD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42B04-901F-4E45-A618-5A078BAA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FDAF3-F7B2-47A4-AE14-A0C6BA3C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016F2-FDDE-43CA-950F-8BF563F5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40C-7701-4FE7-B703-94EA851D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2222D-EBDC-4EB4-A90C-45384823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CFAB2-09B5-4D7F-B9AF-E8C5E925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C30ED-7B3E-41B0-919B-69EEA4EA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776A7-53DF-49A8-99AB-E61B26FC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632CB-50F3-4179-B96F-95BC1686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33877-91B6-4793-9A62-B6170737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BC6F9-84D8-482B-B8EF-C071B850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282BE-7D17-46FB-899B-93E6F1D3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D1732-CB98-4BF2-946A-4F6FD013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85C61-0790-4FCF-B089-60B96D5E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98E4-7FB8-4175-ACE6-F076F7B2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91632-1012-40CD-BE05-4EF1E6FC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0C367-34C9-4276-8113-B954F7A8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C044D-A311-40BF-AEF1-D068B9D7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95279-76CD-4148-A126-702DAA77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38FA8-DAA8-4D07-A0D7-28ACD32A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90EC1-9003-4332-8BF4-41F48060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22A04-1DB3-4925-97C9-247DBE20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5CD40-AB77-4304-85F1-735215C6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1BCAD-45EB-405C-9BC4-18F522D6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7DFD6-1FE5-4FFB-A2DB-2AD2685F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924-6A89-49C4-9B69-75D4D80F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8FD1A-258C-43A4-A193-B8315942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2C627-212A-449D-97B4-7BF96410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FC956-4F7F-4418-A869-83D30556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852A7-841F-4657-AD0D-30BECABC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79A37-89F6-4817-BC01-31E0CABE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66938-2206-4D65-B0EE-DBEF47BC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EEFEA-DFF5-4871-80AE-B55D995B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F691F-8E78-41D2-9D22-1632DF95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5C3C1-3BA0-4AE1-AAC3-5DA5BDED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342F9-3103-4B3D-9503-025DF327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0CA-B43A-4E79-AAF6-D3E911E3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9C129-FCB2-41F9-AF25-1C53E482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87C36-971E-4146-A813-2C5767A0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763A5-9EB9-4D5B-BFA6-27795023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A7430-E3A7-4438-866F-9548101F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DF24B-6B3E-4ED2-8381-1B255BF3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E2708-A46D-42C5-8DAA-AC26CAD1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CC2B7-6AD4-419C-93AD-589640B5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7A253-135C-481F-8B8E-F7994218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08D3E-B022-4A0B-B001-B995B6D8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6EFEF-03FD-4A85-959C-B7C30C80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E1F6-C26D-457A-A242-E80CBAD7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E67FC-D4DB-43DA-BC2F-DA0E2E2A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36D2E-24A1-45DC-903A-D659B7DA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90D00-C128-4EE8-AA86-8D3F0A04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50496-6E73-4403-BCD2-8B54A157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DFF7B-9B69-4F5C-8739-FB610E05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DC19A-D050-4899-92D9-D3BBB46F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89A4D-5E2B-4457-A7EC-225298B1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C1649-1AE8-498A-9A57-67BFAA07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AD409-B3F0-45A8-A9ED-D6DF3AD0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BEF3E-3962-4DD4-87B3-A38B21A7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9BBC-1AF5-4D6A-AEA0-837E85D61AD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5032-12BE-4760-AD53-6370CD45D13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CAE9-7C46-4E73-8F6B-FF4C3C5E35C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73A5-0BA8-4B52-93A5-C2F39E7F4E0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7ADF-EDF7-48A0-9F84-9B8A33F3A7E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5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77B2-CC8B-484B-BF8D-8ABE4942A0A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6C66-C8F2-4813-ABE5-AC4A85C006E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5EF5-D403-485C-9AE2-E4B4EC8632D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9CCB-F984-4171-8CA1-1558444A877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7CFA-2910-49EC-879F-1A256668B3F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CF17-189C-4657-9711-74FF4EE62D9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0628-C183-48F5-9179-9C0CD7CB91C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2251-8255-4E9E-9151-C0E8C7A0B6E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1F59-8919-42DA-BE2C-07C2414A677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2247-1E9D-4C75-8B69-F6AEA9645C6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Box 2"/>
          <p:cNvSpPr/>
          <p:nvPr/>
        </p:nvSpPr>
        <p:spPr>
          <a:xfrm>
            <a:off x="39528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7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"/>
          <p:cNvSpPr/>
          <p:nvPr/>
        </p:nvSpPr>
        <p:spPr>
          <a:xfrm>
            <a:off x="539640" y="2997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ка хемија (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04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ја Д. Жив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1"/>
          <p:cNvSpPr/>
          <p:nvPr/>
        </p:nvSpPr>
        <p:spPr>
          <a:xfrm>
            <a:off x="179280" y="4292640"/>
            <a:ext cx="882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ијска реакција у  јонском облику (збир наелектрисања са леве и десне стране једначине мора бити једнак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"/>
          <p:cNvSpPr/>
          <p:nvPr/>
        </p:nvSpPr>
        <p:spPr>
          <a:xfrm>
            <a:off x="327240" y="1403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4"/>
          <p:cNvSpPr/>
          <p:nvPr/>
        </p:nvSpPr>
        <p:spPr>
          <a:xfrm>
            <a:off x="1979640" y="157320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16" descr=""/>
          <p:cNvPicPr/>
          <p:nvPr/>
        </p:nvPicPr>
        <p:blipFill>
          <a:blip r:embed="rId1"/>
          <a:stretch/>
        </p:blipFill>
        <p:spPr>
          <a:xfrm>
            <a:off x="1066680" y="2157480"/>
            <a:ext cx="4513320" cy="89532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18" descr=""/>
          <p:cNvPicPr/>
          <p:nvPr/>
        </p:nvPicPr>
        <p:blipFill>
          <a:blip r:embed="rId2"/>
          <a:stretch/>
        </p:blipFill>
        <p:spPr>
          <a:xfrm>
            <a:off x="733320" y="3357720"/>
            <a:ext cx="7405920" cy="63972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19" descr=""/>
          <p:cNvPicPr/>
          <p:nvPr/>
        </p:nvPicPr>
        <p:blipFill>
          <a:blip r:embed="rId3"/>
          <a:stretch/>
        </p:blipFill>
        <p:spPr>
          <a:xfrm>
            <a:off x="932040" y="1339920"/>
            <a:ext cx="7170480" cy="54936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20" descr=""/>
          <p:cNvPicPr/>
          <p:nvPr/>
        </p:nvPicPr>
        <p:blipFill>
          <a:blip r:embed="rId4"/>
          <a:stretch/>
        </p:blipFill>
        <p:spPr>
          <a:xfrm>
            <a:off x="939960" y="5334120"/>
            <a:ext cx="4449600" cy="549000"/>
          </a:xfrm>
          <a:prstGeom prst="rect">
            <a:avLst/>
          </a:prstGeom>
          <a:ln w="0">
            <a:noFill/>
          </a:ln>
        </p:spPr>
      </p:pic>
      <p:sp>
        <p:nvSpPr>
          <p:cNvPr id="850" name="Rectangle 1"/>
          <p:cNvSpPr/>
          <p:nvPr/>
        </p:nvSpPr>
        <p:spPr>
          <a:xfrm>
            <a:off x="5564160" y="2254320"/>
            <a:ext cx="304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оксидације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"/>
          <p:cNvSpPr/>
          <p:nvPr/>
        </p:nvSpPr>
        <p:spPr>
          <a:xfrm>
            <a:off x="5576040" y="2681280"/>
            <a:ext cx="276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реду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Box 1"/>
          <p:cNvSpPr/>
          <p:nvPr/>
        </p:nvSpPr>
        <p:spPr>
          <a:xfrm>
            <a:off x="397800" y="15447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2" descr=""/>
          <p:cNvPicPr/>
          <p:nvPr/>
        </p:nvPicPr>
        <p:blipFill>
          <a:blip r:embed="rId1"/>
          <a:stretch/>
        </p:blipFill>
        <p:spPr>
          <a:xfrm>
            <a:off x="773280" y="1463760"/>
            <a:ext cx="3797280" cy="56196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" descr=""/>
          <p:cNvPicPr/>
          <p:nvPr/>
        </p:nvPicPr>
        <p:blipFill>
          <a:blip r:embed="rId2"/>
          <a:stretch/>
        </p:blipFill>
        <p:spPr>
          <a:xfrm>
            <a:off x="727200" y="2260440"/>
            <a:ext cx="5200560" cy="144648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4"/>
          <p:cNvSpPr/>
          <p:nvPr/>
        </p:nvSpPr>
        <p:spPr>
          <a:xfrm>
            <a:off x="5924520" y="2349360"/>
            <a:ext cx="30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редукциј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5944320" y="2881440"/>
            <a:ext cx="29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оксидац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4" descr=""/>
          <p:cNvPicPr/>
          <p:nvPr/>
        </p:nvPicPr>
        <p:blipFill>
          <a:blip r:embed="rId3"/>
          <a:stretch/>
        </p:blipFill>
        <p:spPr>
          <a:xfrm>
            <a:off x="773280" y="3852720"/>
            <a:ext cx="4552920" cy="56052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9" descr=""/>
          <p:cNvPicPr/>
          <p:nvPr/>
        </p:nvPicPr>
        <p:blipFill>
          <a:blip r:embed="rId4"/>
          <a:stretch/>
        </p:blipFill>
        <p:spPr>
          <a:xfrm>
            <a:off x="773280" y="4653000"/>
            <a:ext cx="720720" cy="474480"/>
          </a:xfrm>
          <a:prstGeom prst="rect">
            <a:avLst/>
          </a:prstGeom>
          <a:ln w="0">
            <a:noFill/>
          </a:ln>
        </p:spPr>
      </p:pic>
      <p:sp>
        <p:nvSpPr>
          <p:cNvPr id="859" name="TextBox 10"/>
          <p:cNvSpPr/>
          <p:nvPr/>
        </p:nvSpPr>
        <p:spPr>
          <a:xfrm>
            <a:off x="1475280" y="4724280"/>
            <a:ext cx="331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ксидационо сред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10" descr=""/>
          <p:cNvPicPr/>
          <p:nvPr/>
        </p:nvPicPr>
        <p:blipFill>
          <a:blip r:embed="rId5"/>
          <a:stretch/>
        </p:blipFill>
        <p:spPr>
          <a:xfrm>
            <a:off x="1042920" y="5127480"/>
            <a:ext cx="144360" cy="411480"/>
          </a:xfrm>
          <a:prstGeom prst="rect">
            <a:avLst/>
          </a:prstGeom>
          <a:ln w="0">
            <a:noFill/>
          </a:ln>
        </p:spPr>
      </p:pic>
      <p:sp>
        <p:nvSpPr>
          <p:cNvPr id="861" name="Rectangle 11"/>
          <p:cNvSpPr/>
          <p:nvPr/>
        </p:nvSpPr>
        <p:spPr>
          <a:xfrm>
            <a:off x="1476360" y="5140440"/>
            <a:ext cx="318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редукционо сред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1"/>
          <p:cNvSpPr/>
          <p:nvPr/>
        </p:nvSpPr>
        <p:spPr>
          <a:xfrm>
            <a:off x="1116000" y="148428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ванск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а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литичка ће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4"/>
          <p:cNvSpPr/>
          <p:nvPr/>
        </p:nvSpPr>
        <p:spPr>
          <a:xfrm>
            <a:off x="34920" y="2276640"/>
            <a:ext cx="9145440" cy="34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ванскa ћел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а у којој се одиграва спонтана редокс реакција при чему се хемијска енергија претвара у електричну (када се споје преко проводничке жице, производи се електрична струј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литичка ћел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а у којој се хемијска реакција одиграва применом електромоторне силе спољашњег извора, чиме се електрони присиљавају да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крећ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супротном правцу од оног код галванске ћелије (троши се електрична енергија или рад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3"/>
          <p:cNvSpPr/>
          <p:nvPr/>
        </p:nvSpPr>
        <p:spPr>
          <a:xfrm>
            <a:off x="2484360" y="981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хемијска ћел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1187280" y="5661000"/>
            <a:ext cx="705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ба случаја важ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а на којој се врш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ја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</a:t>
            </a: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а на којој се врш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</a:t>
            </a: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2" descr=""/>
          <p:cNvPicPr/>
          <p:nvPr/>
        </p:nvPicPr>
        <p:blipFill>
          <a:blip r:embed="rId1"/>
          <a:srcRect l="30159" t="23253" r="28335" b="19656"/>
          <a:stretch/>
        </p:blipFill>
        <p:spPr>
          <a:xfrm>
            <a:off x="2411280" y="1758960"/>
            <a:ext cx="3372120" cy="2606760"/>
          </a:xfrm>
          <a:prstGeom prst="rect">
            <a:avLst/>
          </a:prstGeom>
          <a:ln w="0">
            <a:noFill/>
          </a:ln>
        </p:spPr>
      </p:pic>
      <p:sp>
        <p:nvSpPr>
          <p:cNvPr id="867" name="Rectangle 1"/>
          <p:cNvSpPr/>
          <p:nvPr/>
        </p:nvSpPr>
        <p:spPr>
          <a:xfrm>
            <a:off x="179280" y="4581360"/>
            <a:ext cx="89647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и се од две полућелије (полуелемента) које су сачињене од електрода уроњених у растворе одговарајућих јо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ћелије су повезане електричним проводником (жицом, којом се крећу електрони) и електролитичким мостом (којим се крећу јон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1403280" y="11048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ванска ћелија (елемент, спре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1"/>
          <p:cNvSpPr/>
          <p:nvPr/>
        </p:nvSpPr>
        <p:spPr>
          <a:xfrm>
            <a:off x="108000" y="4618080"/>
            <a:ext cx="896472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литички мос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ључ) је цев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лика напуњена раствором нек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не соли (електролитом) која не учествује у реакцијама на електродама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 већ служи да се у полућелијама одржи електрична неутралност миграцијом (кретањем) јона. Катјони из електролитичког кључа прелазе у катодну полућелију, а анјони у анодну полућели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1"/>
          <a:srcRect l="37909" t="31127" r="31102" b="25566"/>
          <a:stretch/>
        </p:blipFill>
        <p:spPr>
          <a:xfrm>
            <a:off x="5318280" y="1844640"/>
            <a:ext cx="3574800" cy="2808360"/>
          </a:xfrm>
          <a:prstGeom prst="rect">
            <a:avLst/>
          </a:prstGeom>
          <a:ln w="0">
            <a:noFill/>
          </a:ln>
        </p:spPr>
      </p:pic>
      <p:sp>
        <p:nvSpPr>
          <p:cNvPr id="871" name="TextBox 1"/>
          <p:cNvSpPr/>
          <p:nvPr/>
        </p:nvSpPr>
        <p:spPr>
          <a:xfrm>
            <a:off x="108000" y="155736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ванска ћелија састављена од редокс парова Z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Zn и  Cu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u позната је под називо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ијелов елемен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2"/>
          <p:cNvSpPr/>
          <p:nvPr/>
        </p:nvSpPr>
        <p:spPr>
          <a:xfrm>
            <a:off x="2700360" y="96192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нијелов е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179280" y="2397240"/>
            <a:ext cx="54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љен је од две чаше повезане електролитичким мосто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једној 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-шипка уроњена у раствор Cu(II) сол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ј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-шипка уроњена у раствор Zn(II) со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631800" y="2924280"/>
            <a:ext cx="4011480" cy="216036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250920" y="1125360"/>
            <a:ext cx="842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ја и редукција се одигравају у раздвојеним простор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216000" y="1700280"/>
            <a:ext cx="745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оксидације –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а (-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Zn(s) → Z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2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7"/>
          <p:cNvSpPr/>
          <p:nvPr/>
        </p:nvSpPr>
        <p:spPr>
          <a:xfrm>
            <a:off x="216000" y="2133720"/>
            <a:ext cx="745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редукције –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а (+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u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2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u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3"/>
          <p:cNvSpPr/>
          <p:nvPr/>
        </p:nvSpPr>
        <p:spPr>
          <a:xfrm>
            <a:off x="5153040" y="2781360"/>
            <a:ext cx="337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извесног време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Picture 3" descr=""/>
          <p:cNvPicPr/>
          <p:nvPr/>
        </p:nvPicPr>
        <p:blipFill>
          <a:blip r:embed="rId2"/>
          <a:stretch/>
        </p:blipFill>
        <p:spPr>
          <a:xfrm>
            <a:off x="6300720" y="3213000"/>
            <a:ext cx="1071720" cy="1757520"/>
          </a:xfrm>
          <a:prstGeom prst="rect">
            <a:avLst/>
          </a:prstGeom>
          <a:ln w="0">
            <a:noFill/>
          </a:ln>
        </p:spPr>
      </p:pic>
      <p:sp>
        <p:nvSpPr>
          <p:cNvPr id="880" name="Rectangle 8"/>
          <p:cNvSpPr/>
          <p:nvPr/>
        </p:nvSpPr>
        <p:spPr>
          <a:xfrm>
            <a:off x="4859280" y="450864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-ан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9"/>
          <p:cNvSpPr/>
          <p:nvPr/>
        </p:nvSpPr>
        <p:spPr>
          <a:xfrm>
            <a:off x="7451640" y="4508640"/>
            <a:ext cx="14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-ка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9"/>
          <p:cNvSpPr/>
          <p:nvPr/>
        </p:nvSpPr>
        <p:spPr>
          <a:xfrm>
            <a:off x="179280" y="5418000"/>
            <a:ext cx="856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и прелазе са метала у раствор, а еквивалентна количина електрона са Zn-електроде преко проводника долази на Cu-електроду где реагују са Cu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има из раствора, таложећи награђени Cu на ел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роду бак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6"/>
          <p:cNvSpPr/>
          <p:nvPr/>
        </p:nvSpPr>
        <p:spPr>
          <a:xfrm>
            <a:off x="2195640" y="1119240"/>
            <a:ext cx="56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матско приказивање галванске ћели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7"/>
          <p:cNvSpPr/>
          <p:nvPr/>
        </p:nvSpPr>
        <p:spPr>
          <a:xfrm>
            <a:off x="3060720" y="234936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) Zn|Z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Cu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u (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0"/>
          <p:cNvSpPr/>
          <p:nvPr/>
        </p:nvSpPr>
        <p:spPr>
          <a:xfrm>
            <a:off x="250920" y="242244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ца између ф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11"/>
          <p:cNvSpPr/>
          <p:nvPr/>
        </p:nvSpPr>
        <p:spPr>
          <a:xfrm>
            <a:off x="5230800" y="2852640"/>
            <a:ext cx="343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литички м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Curved Up Arrow 12"/>
          <p:cNvSpPr/>
          <p:nvPr/>
        </p:nvSpPr>
        <p:spPr>
          <a:xfrm rot="10800000">
            <a:off x="2401920" y="2061720"/>
            <a:ext cx="1512720" cy="360360"/>
          </a:xfrm>
          <a:custGeom>
            <a:avLst/>
            <a:gdLst>
              <a:gd name="textAreaLeft" fmla="*/ 344160 w 1512720"/>
              <a:gd name="textAreaRight" fmla="*/ 1123560 w 1512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35" hR="21600" stAng="10800000" swAng="-5400000"/>
                <a:lnTo>
                  <a:pt x="11122" y="21600"/>
                </a:lnTo>
                <a:arcTo wR="9835" hR="21600" stAng="5400000" swAng="-3626634"/>
                <a:lnTo>
                  <a:pt x="21288" y="5400"/>
                </a:lnTo>
                <a:lnTo>
                  <a:pt x="20314" y="0"/>
                </a:lnTo>
                <a:lnTo>
                  <a:pt x="18715" y="5400"/>
                </a:lnTo>
                <a:lnTo>
                  <a:pt x="19358" y="5400"/>
                </a:lnTo>
                <a:arcTo wR="9835" hR="21600" stAng="1773366" swAng="3524028"/>
                <a:lnTo>
                  <a:pt x="10479" y="21554"/>
                </a:lnTo>
                <a:arcTo wR="9835" hR="21600" stAng="5502606" swAng="5297394"/>
                <a:close/>
              </a:path>
              <a:path fill="darkenLess" w="21600" h="21600">
                <a:moveTo>
                  <a:pt x="0" y="0"/>
                </a:moveTo>
                <a:arcTo wR="9835" hR="21600" stAng="10800000" swAng="-5400000"/>
                <a:lnTo>
                  <a:pt x="11122" y="21600"/>
                </a:lnTo>
                <a:arcTo wR="9835" hR="21600" stAng="5400000" swAng="102606"/>
                <a:lnTo>
                  <a:pt x="10479" y="21554"/>
                </a:lnTo>
                <a:arcTo wR="9835" hR="21600" stAng="5502606" swAng="5297394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5"/>
          <p:cNvSpPr/>
          <p:nvPr/>
        </p:nvSpPr>
        <p:spPr>
          <a:xfrm>
            <a:off x="257040" y="432288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говору оксидација на аноди пише се са леве стране, а редукција на катоди са десне стра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Curved Up Arrow 16"/>
          <p:cNvSpPr/>
          <p:nvPr/>
        </p:nvSpPr>
        <p:spPr>
          <a:xfrm rot="1771200">
            <a:off x="4223880" y="3082680"/>
            <a:ext cx="1224000" cy="431640"/>
          </a:xfrm>
          <a:custGeom>
            <a:avLst/>
            <a:gdLst>
              <a:gd name="textAreaLeft" fmla="*/ 265320 w 1224000"/>
              <a:gd name="textAreaRight" fmla="*/ 904680 w 1224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371" hR="21600" stAng="10800000" swAng="-5400000"/>
                <a:lnTo>
                  <a:pt x="11277" y="21600"/>
                </a:lnTo>
                <a:arcTo wR="9371" hR="21600" stAng="5400000" swAng="-3554475"/>
                <a:lnTo>
                  <a:pt x="21302" y="5400"/>
                </a:lnTo>
                <a:lnTo>
                  <a:pt x="19695" y="0"/>
                </a:lnTo>
                <a:lnTo>
                  <a:pt x="17492" y="5400"/>
                </a:lnTo>
                <a:lnTo>
                  <a:pt x="18444" y="5400"/>
                </a:lnTo>
                <a:arcTo wR="9371" hR="21600" stAng="1845525" swAng="3402110"/>
                <a:lnTo>
                  <a:pt x="10324" y="21488"/>
                </a:lnTo>
                <a:arcTo wR="9371" hR="21600" stAng="5552365" swAng="5247635"/>
                <a:close/>
              </a:path>
              <a:path fill="darkenLess" w="21600" h="21600">
                <a:moveTo>
                  <a:pt x="0" y="0"/>
                </a:moveTo>
                <a:arcTo wR="9371" hR="21600" stAng="10800000" swAng="-5400000"/>
                <a:lnTo>
                  <a:pt x="11277" y="21600"/>
                </a:lnTo>
                <a:arcTo wR="9371" hR="21600" stAng="5400000" swAng="152365"/>
                <a:lnTo>
                  <a:pt x="10324" y="21488"/>
                </a:lnTo>
                <a:arcTo wR="9371" hR="21600" stAng="5552365" swAng="5247635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1"/>
          <p:cNvSpPr/>
          <p:nvPr/>
        </p:nvSpPr>
        <p:spPr>
          <a:xfrm>
            <a:off x="0" y="981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комад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ни у водени раствор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одиграва се процес оксидације и редукције  у истом простору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2"/>
          <p:cNvSpPr/>
          <p:nvPr/>
        </p:nvSpPr>
        <p:spPr>
          <a:xfrm>
            <a:off x="2124000" y="227808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(s) + C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→ Zn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Cu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3"/>
          <p:cNvSpPr/>
          <p:nvPr/>
        </p:nvSpPr>
        <p:spPr>
          <a:xfrm>
            <a:off x="2739600" y="1692360"/>
            <a:ext cx="5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Curved Down Arrow 4"/>
          <p:cNvSpPr/>
          <p:nvPr/>
        </p:nvSpPr>
        <p:spPr>
          <a:xfrm>
            <a:off x="2484360" y="2050920"/>
            <a:ext cx="936720" cy="298440"/>
          </a:xfrm>
          <a:custGeom>
            <a:avLst/>
            <a:gdLst>
              <a:gd name="textAreaLeft" fmla="*/ 205920 w 936720"/>
              <a:gd name="textAreaRight" fmla="*/ 693360 w 936720"/>
              <a:gd name="textAreaTop" fmla="*/ 39960 h 298440"/>
              <a:gd name="textAreaBottom" fmla="*/ 258480 h 29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10" hR="21600" stAng="10800000" swAng="5400000"/>
                <a:lnTo>
                  <a:pt x="11231" y="0"/>
                </a:lnTo>
                <a:arcTo wR="9510" hR="21600" stAng="-5400000" swAng="3576563"/>
                <a:lnTo>
                  <a:pt x="21298" y="16200"/>
                </a:lnTo>
                <a:lnTo>
                  <a:pt x="19880" y="21600"/>
                </a:lnTo>
                <a:lnTo>
                  <a:pt x="17857" y="16200"/>
                </a:lnTo>
                <a:lnTo>
                  <a:pt x="18717" y="16200"/>
                </a:lnTo>
                <a:arcTo wR="9510" hR="21600" stAng="-1823437" swAng="-3439120"/>
                <a:lnTo>
                  <a:pt x="10370" y="89"/>
                </a:lnTo>
                <a:arcTo wR="9510" hR="21600" stAng="-5537444" swAng="-5262556"/>
                <a:close/>
              </a:path>
              <a:path fill="darkenLess" w="21600" h="21600">
                <a:moveTo>
                  <a:pt x="0" y="21600"/>
                </a:moveTo>
                <a:arcTo wR="9510" hR="21600" stAng="10800000" swAng="5400000"/>
                <a:lnTo>
                  <a:pt x="9510" y="0"/>
                </a:lnTo>
                <a:arcTo wR="9510" hR="21600" stAng="-5400000" swAng="137444"/>
                <a:lnTo>
                  <a:pt x="10370" y="89"/>
                </a:lnTo>
                <a:arcTo wR="9510" hR="21600" stAng="-5537444" swAng="-5262556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7"/>
          <p:cNvSpPr/>
          <p:nvPr/>
        </p:nvSpPr>
        <p:spPr>
          <a:xfrm>
            <a:off x="2771640" y="2708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извесног вр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2038320" cy="290664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3" descr=""/>
          <p:cNvPicPr/>
          <p:nvPr/>
        </p:nvPicPr>
        <p:blipFill>
          <a:blip r:embed="rId2"/>
          <a:stretch/>
        </p:blipFill>
        <p:spPr>
          <a:xfrm>
            <a:off x="6404040" y="2852640"/>
            <a:ext cx="1913040" cy="2749680"/>
          </a:xfrm>
          <a:prstGeom prst="rect">
            <a:avLst/>
          </a:prstGeom>
          <a:ln w="0">
            <a:noFill/>
          </a:ln>
        </p:spPr>
      </p:pic>
      <p:cxnSp>
        <p:nvCxnSpPr>
          <p:cNvPr id="897" name="Straight Arrow Connector 11"/>
          <p:cNvCxnSpPr/>
          <p:nvPr/>
        </p:nvCxnSpPr>
        <p:spPr>
          <a:xfrm>
            <a:off x="2916000" y="3357360"/>
            <a:ext cx="295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8" name="Rectangle 12"/>
          <p:cNvSpPr/>
          <p:nvPr/>
        </p:nvSpPr>
        <p:spPr>
          <a:xfrm>
            <a:off x="2877840" y="3932280"/>
            <a:ext cx="30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(s) → 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2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3"/>
          <p:cNvSpPr/>
          <p:nvPr/>
        </p:nvSpPr>
        <p:spPr>
          <a:xfrm>
            <a:off x="2627280" y="3429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оксид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4"/>
          <p:cNvSpPr/>
          <p:nvPr/>
        </p:nvSpPr>
        <p:spPr>
          <a:xfrm>
            <a:off x="2700360" y="5127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2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u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5"/>
          <p:cNvSpPr/>
          <p:nvPr/>
        </p:nvSpPr>
        <p:spPr>
          <a:xfrm>
            <a:off x="2627280" y="4581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редук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"/>
          <p:cNvSpPr/>
          <p:nvPr/>
        </p:nvSpPr>
        <p:spPr>
          <a:xfrm>
            <a:off x="108000" y="6165720"/>
            <a:ext cx="88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 у циљу лакшег проучавања, посматрају се одвојене полуреакц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TextBox 2"/>
          <p:cNvSpPr/>
          <p:nvPr/>
        </p:nvSpPr>
        <p:spPr>
          <a:xfrm>
            <a:off x="2411280" y="98100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5"/>
          <p:cNvSpPr/>
          <p:nvPr/>
        </p:nvSpPr>
        <p:spPr>
          <a:xfrm>
            <a:off x="5364000" y="3068640"/>
            <a:ext cx="273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2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Z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2"/>
          <p:cNvSpPr/>
          <p:nvPr/>
        </p:nvSpPr>
        <p:spPr>
          <a:xfrm>
            <a:off x="2411280" y="98100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4"/>
          <p:cNvSpPr/>
          <p:nvPr/>
        </p:nvSpPr>
        <p:spPr>
          <a:xfrm>
            <a:off x="182520" y="3860640"/>
            <a:ext cx="813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успостави равнотежно стање на граничној површини метал/раствор се ствара двоструки електрични слој, чија је мера електродни потенциј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182520" y="515772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је разлика потенцијала између метала и раствора његове со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"/>
          <p:cNvSpPr/>
          <p:nvPr/>
        </p:nvSpPr>
        <p:spPr>
          <a:xfrm>
            <a:off x="5435640" y="2103480"/>
            <a:ext cx="26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           Z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2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9" name="Straight Arrow Connector 34"/>
          <p:cNvCxnSpPr/>
          <p:nvPr/>
        </p:nvCxnSpPr>
        <p:spPr>
          <a:xfrm>
            <a:off x="6012000" y="230472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0" name="Straight Arrow Connector 35"/>
          <p:cNvCxnSpPr/>
          <p:nvPr/>
        </p:nvCxnSpPr>
        <p:spPr>
          <a:xfrm flipH="1">
            <a:off x="6011640" y="239040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1" name="Straight Arrow Connector 36"/>
          <p:cNvCxnSpPr/>
          <p:nvPr/>
        </p:nvCxnSpPr>
        <p:spPr>
          <a:xfrm>
            <a:off x="6875640" y="327312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2" name="Straight Arrow Connector 37"/>
          <p:cNvCxnSpPr/>
          <p:nvPr/>
        </p:nvCxnSpPr>
        <p:spPr>
          <a:xfrm flipH="1">
            <a:off x="6875280" y="335736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3" name="TextBox 16"/>
          <p:cNvSpPr/>
          <p:nvPr/>
        </p:nvSpPr>
        <p:spPr>
          <a:xfrm>
            <a:off x="5398920" y="1749600"/>
            <a:ext cx="29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оксидаци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7"/>
          <p:cNvSpPr/>
          <p:nvPr/>
        </p:nvSpPr>
        <p:spPr>
          <a:xfrm>
            <a:off x="5364000" y="2565360"/>
            <a:ext cx="29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редукци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Group 41"/>
          <p:cNvGrpSpPr/>
          <p:nvPr/>
        </p:nvGrpSpPr>
        <p:grpSpPr>
          <a:xfrm>
            <a:off x="684360" y="1832040"/>
            <a:ext cx="1490400" cy="1667880"/>
            <a:chOff x="684360" y="1832040"/>
            <a:chExt cx="1490400" cy="1667880"/>
          </a:xfrm>
        </p:grpSpPr>
        <p:sp>
          <p:nvSpPr>
            <p:cNvPr id="916" name="Straight Connector 41"/>
            <p:cNvSpPr/>
            <p:nvPr/>
          </p:nvSpPr>
          <p:spPr>
            <a:xfrm>
              <a:off x="684360" y="2119320"/>
              <a:ext cx="0" cy="136836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Straight Connector 42"/>
            <p:cNvSpPr/>
            <p:nvPr/>
          </p:nvSpPr>
          <p:spPr>
            <a:xfrm>
              <a:off x="700200" y="3484440"/>
              <a:ext cx="1474560" cy="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Straight Connector 43"/>
            <p:cNvSpPr/>
            <p:nvPr/>
          </p:nvSpPr>
          <p:spPr>
            <a:xfrm flipV="1">
              <a:off x="2160720" y="2133000"/>
              <a:ext cx="0" cy="136692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44"/>
            <p:cNvSpPr/>
            <p:nvPr/>
          </p:nvSpPr>
          <p:spPr>
            <a:xfrm>
              <a:off x="744480" y="2479680"/>
              <a:ext cx="1379520" cy="974520"/>
            </a:xfrm>
            <a:prstGeom prst="rect">
              <a:avLst/>
            </a:prstGeom>
            <a:solidFill>
              <a:srgbClr val="c4efff"/>
            </a:solidFill>
            <a:ln w="25560">
              <a:solidFill>
                <a:srgbClr val="c4e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45"/>
            <p:cNvSpPr/>
            <p:nvPr/>
          </p:nvSpPr>
          <p:spPr>
            <a:xfrm>
              <a:off x="1403280" y="1903320"/>
              <a:ext cx="288720" cy="1368360"/>
            </a:xfrm>
            <a:prstGeom prst="rect">
              <a:avLst/>
            </a:prstGeom>
            <a:solidFill>
              <a:srgbClr val="91c6f7"/>
            </a:solidFill>
            <a:ln w="25560">
              <a:solidFill>
                <a:srgbClr val="91c6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Box 28"/>
            <p:cNvSpPr/>
            <p:nvPr/>
          </p:nvSpPr>
          <p:spPr>
            <a:xfrm>
              <a:off x="1548000" y="2328120"/>
              <a:ext cx="143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Box 29"/>
            <p:cNvSpPr/>
            <p:nvPr/>
          </p:nvSpPr>
          <p:spPr>
            <a:xfrm>
              <a:off x="1692000" y="2427120"/>
              <a:ext cx="28764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Straight Connector 48"/>
            <p:cNvSpPr/>
            <p:nvPr/>
          </p:nvSpPr>
          <p:spPr>
            <a:xfrm>
              <a:off x="1717560" y="2489040"/>
              <a:ext cx="0" cy="772920"/>
            </a:xfrm>
            <a:prstGeom prst="line">
              <a:avLst/>
            </a:prstGeom>
            <a:ln w="22320">
              <a:solidFill>
                <a:srgbClr val="0349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34"/>
            <p:cNvSpPr/>
            <p:nvPr/>
          </p:nvSpPr>
          <p:spPr>
            <a:xfrm>
              <a:off x="696600" y="3055320"/>
              <a:ext cx="556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n</a:t>
              </a:r>
              <a:r>
                <a:rPr b="0" lang="en-US" sz="1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2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5" name="Straight Arrow Connector 50"/>
            <p:cNvCxnSpPr/>
            <p:nvPr/>
          </p:nvCxnSpPr>
          <p:spPr>
            <a:xfrm flipH="1">
              <a:off x="970920" y="2766960"/>
              <a:ext cx="432360" cy="289440"/>
            </a:xfrm>
            <a:prstGeom prst="straightConnector1">
              <a:avLst/>
            </a:prstGeom>
            <a:ln w="9360">
              <a:solidFill>
                <a:srgbClr val="03495c"/>
              </a:solidFill>
              <a:miter/>
              <a:tailEnd len="med" type="arrow" w="med"/>
            </a:ln>
          </p:spPr>
        </p:cxnSp>
        <p:cxnSp>
          <p:nvCxnSpPr>
            <p:cNvPr id="926" name="Straight Arrow Connector 51"/>
            <p:cNvCxnSpPr/>
            <p:nvPr/>
          </p:nvCxnSpPr>
          <p:spPr>
            <a:xfrm flipV="1">
              <a:off x="1115640" y="2695320"/>
              <a:ext cx="216360" cy="144720"/>
            </a:xfrm>
            <a:prstGeom prst="straightConnector1">
              <a:avLst/>
            </a:prstGeom>
            <a:ln w="9360">
              <a:solidFill>
                <a:srgbClr val="03495c"/>
              </a:solidFill>
              <a:miter/>
              <a:tailEnd len="med" type="arrow" w="med"/>
            </a:ln>
          </p:spPr>
        </p:cxnSp>
        <p:sp>
          <p:nvSpPr>
            <p:cNvPr id="927" name="Rectangle 40"/>
            <p:cNvSpPr/>
            <p:nvPr/>
          </p:nvSpPr>
          <p:spPr>
            <a:xfrm>
              <a:off x="1334520" y="1832040"/>
              <a:ext cx="3924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Rectangle 42"/>
          <p:cNvSpPr/>
          <p:nvPr/>
        </p:nvSpPr>
        <p:spPr>
          <a:xfrm>
            <a:off x="2272680" y="1700280"/>
            <a:ext cx="2143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9" name="Straight Arrow Connector 54"/>
          <p:cNvCxnSpPr/>
          <p:nvPr/>
        </p:nvCxnSpPr>
        <p:spPr>
          <a:xfrm flipH="1">
            <a:off x="1691640" y="2060640"/>
            <a:ext cx="86436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0" name="TextBox 46"/>
          <p:cNvSpPr/>
          <p:nvPr/>
        </p:nvSpPr>
        <p:spPr>
          <a:xfrm>
            <a:off x="2252520" y="6004080"/>
            <a:ext cx="42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= Е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етал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Е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Box 1"/>
          <p:cNvSpPr/>
          <p:nvPr/>
        </p:nvSpPr>
        <p:spPr>
          <a:xfrm>
            <a:off x="2627280" y="10335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рнстова једнач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2"/>
          <p:cNvSpPr/>
          <p:nvPr/>
        </p:nvSpPr>
        <p:spPr>
          <a:xfrm>
            <a:off x="182520" y="165276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ки израз за електродни потенцијал назива с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нстова једнач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3"/>
          <p:cNvSpPr/>
          <p:nvPr/>
        </p:nvSpPr>
        <p:spPr>
          <a:xfrm>
            <a:off x="182520" y="2565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нстова једначина за општи случај полуреак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5"/>
          <p:cNvSpPr/>
          <p:nvPr/>
        </p:nvSpPr>
        <p:spPr>
          <a:xfrm>
            <a:off x="2556000" y="3141720"/>
            <a:ext cx="31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  +  n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R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Straight Arrow Connector 7"/>
          <p:cNvCxnSpPr/>
          <p:nvPr/>
        </p:nvCxnSpPr>
        <p:spPr>
          <a:xfrm>
            <a:off x="3995280" y="3284280"/>
            <a:ext cx="505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6" name="Straight Arrow Connector 8"/>
          <p:cNvCxnSpPr/>
          <p:nvPr/>
        </p:nvCxnSpPr>
        <p:spPr>
          <a:xfrm flipH="1">
            <a:off x="3994920" y="3428640"/>
            <a:ext cx="505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937" name="Object 4"/>
          <p:cNvGraphicFramePr/>
          <p:nvPr/>
        </p:nvGraphicFramePr>
        <p:xfrm>
          <a:off x="395280" y="3716280"/>
          <a:ext cx="259236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716280"/>
                    <a:ext cx="2592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9" name="Object 5"/>
          <p:cNvGraphicFramePr/>
          <p:nvPr/>
        </p:nvGraphicFramePr>
        <p:xfrm>
          <a:off x="3924360" y="3716280"/>
          <a:ext cx="319392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716280"/>
                    <a:ext cx="31939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1" name="TextBox 13"/>
          <p:cNvSpPr/>
          <p:nvPr/>
        </p:nvSpPr>
        <p:spPr>
          <a:xfrm>
            <a:off x="7596360" y="40053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5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ight Arrow 12"/>
          <p:cNvSpPr/>
          <p:nvPr/>
        </p:nvSpPr>
        <p:spPr>
          <a:xfrm>
            <a:off x="3276720" y="4076640"/>
            <a:ext cx="358560" cy="14436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15"/>
          <p:cNvSpPr/>
          <p:nvPr/>
        </p:nvSpPr>
        <p:spPr>
          <a:xfrm>
            <a:off x="108000" y="4802040"/>
            <a:ext cx="882000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андардни електродни потенциј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– универзална гасна константа (R = 8,314 J/K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– термодинамичка температура 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– Фарадејева константа (F ≈ 96500 С/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 број размењених елект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e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активитети оксидованог и редукованог облика супстанце у раств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1"/>
          <p:cNvSpPr/>
          <p:nvPr/>
        </p:nvSpPr>
        <p:spPr>
          <a:xfrm>
            <a:off x="2303640" y="102060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сидација и реду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"/>
          <p:cNvSpPr/>
          <p:nvPr/>
        </p:nvSpPr>
        <p:spPr>
          <a:xfrm>
            <a:off x="182520" y="1590840"/>
            <a:ext cx="885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оксидо-редукције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кс реакциј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су реакције у којима долази до размене електрона између реагујућих супстан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3810600" y="22795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6"/>
          <p:cNvSpPr/>
          <p:nvPr/>
        </p:nvSpPr>
        <p:spPr>
          <a:xfrm>
            <a:off x="250920" y="429732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 KОЈ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УШТА ЕЛЕKТРОН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ОKСИД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7"/>
          <p:cNvSpPr/>
          <p:nvPr/>
        </p:nvSpPr>
        <p:spPr>
          <a:xfrm>
            <a:off x="395280" y="5211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оно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8"/>
          <p:cNvSpPr/>
          <p:nvPr/>
        </p:nvSpPr>
        <p:spPr>
          <a:xfrm>
            <a:off x="1619280" y="573264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→  отпуштање електр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9"/>
          <p:cNvSpPr/>
          <p:nvPr/>
        </p:nvSpPr>
        <p:spPr>
          <a:xfrm>
            <a:off x="4572000" y="429732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 KОЈ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 ЕЛЕKТРОН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РЕДУK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11"/>
          <p:cNvSpPr/>
          <p:nvPr/>
        </p:nvSpPr>
        <p:spPr>
          <a:xfrm>
            <a:off x="4643280" y="52117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оно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12"/>
          <p:cNvSpPr/>
          <p:nvPr/>
        </p:nvSpPr>
        <p:spPr>
          <a:xfrm>
            <a:off x="1835280" y="6165720"/>
            <a:ext cx="46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 примање елект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Curved Down Arrow 12"/>
          <p:cNvSpPr/>
          <p:nvPr/>
        </p:nvSpPr>
        <p:spPr>
          <a:xfrm>
            <a:off x="3419640" y="2728800"/>
            <a:ext cx="1223640" cy="268560"/>
          </a:xfrm>
          <a:custGeom>
            <a:avLst/>
            <a:gdLst>
              <a:gd name="textAreaLeft" fmla="*/ 280800 w 1223640"/>
              <a:gd name="textAreaRight" fmla="*/ 909360 w 1223640"/>
              <a:gd name="textAreaTop" fmla="*/ 36000 h 268560"/>
              <a:gd name="textAreaBottom" fmla="*/ 232560 h 26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13" hR="21600" stAng="10800000" swAng="5400000"/>
                <a:lnTo>
                  <a:pt x="11096" y="0"/>
                </a:lnTo>
                <a:arcTo wR="9913" hR="21600" stAng="-5400000" swAng="3638188"/>
                <a:lnTo>
                  <a:pt x="21285" y="16200"/>
                </a:lnTo>
                <a:lnTo>
                  <a:pt x="20417" y="21600"/>
                </a:lnTo>
                <a:lnTo>
                  <a:pt x="18918" y="16200"/>
                </a:lnTo>
                <a:lnTo>
                  <a:pt x="19510" y="16200"/>
                </a:lnTo>
                <a:arcTo wR="9913" hR="21600" stAng="-1761812" swAng="-3543904"/>
                <a:lnTo>
                  <a:pt x="10504" y="38"/>
                </a:lnTo>
                <a:arcTo wR="9913" hR="21600" stAng="-5494285" swAng="-5305715"/>
                <a:close/>
              </a:path>
              <a:path fill="darkenLess" w="21600" h="21600">
                <a:moveTo>
                  <a:pt x="0" y="21600"/>
                </a:moveTo>
                <a:arcTo wR="9913" hR="21600" stAng="10800000" swAng="5400000"/>
                <a:lnTo>
                  <a:pt x="9913" y="0"/>
                </a:lnTo>
                <a:arcTo wR="9913" hR="21600" stAng="-5400000" swAng="94285"/>
                <a:lnTo>
                  <a:pt x="10504" y="38"/>
                </a:lnTo>
                <a:arcTo wR="9913" hR="21600" stAng="-5494285" swAng="-5305715"/>
                <a:close/>
              </a:path>
            </a:pathLst>
          </a:cu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Down Arrow 13"/>
          <p:cNvSpPr/>
          <p:nvPr/>
        </p:nvSpPr>
        <p:spPr>
          <a:xfrm>
            <a:off x="1763640" y="4983120"/>
            <a:ext cx="144360" cy="289080"/>
          </a:xfrm>
          <a:prstGeom prst="downArrow">
            <a:avLst>
              <a:gd name="adj1" fmla="val 50000"/>
              <a:gd name="adj2" fmla="val 5006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own Arrow 14"/>
          <p:cNvSpPr/>
          <p:nvPr/>
        </p:nvSpPr>
        <p:spPr>
          <a:xfrm>
            <a:off x="6156360" y="4983120"/>
            <a:ext cx="144360" cy="289080"/>
          </a:xfrm>
          <a:prstGeom prst="downArrow">
            <a:avLst>
              <a:gd name="adj1" fmla="val 50000"/>
              <a:gd name="adj2" fmla="val 5006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16" descr="C:\Users\Maca\Desktop\I ned AH\250px-Potassium-permanganate-sample.jpg"/>
          <p:cNvPicPr/>
          <p:nvPr/>
        </p:nvPicPr>
        <p:blipFill>
          <a:blip r:embed="rId1"/>
          <a:stretch/>
        </p:blipFill>
        <p:spPr>
          <a:xfrm>
            <a:off x="4264200" y="3108240"/>
            <a:ext cx="1244520" cy="10288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7" descr="C:\Users\Maca\Desktop\I ned AH\Sodium_metabisulfite.jpg"/>
          <p:cNvPicPr/>
          <p:nvPr/>
        </p:nvPicPr>
        <p:blipFill>
          <a:blip r:embed="rId2"/>
          <a:stretch/>
        </p:blipFill>
        <p:spPr>
          <a:xfrm>
            <a:off x="2484360" y="3108240"/>
            <a:ext cx="1216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TextBox 1"/>
          <p:cNvSpPr/>
          <p:nvPr/>
        </p:nvSpPr>
        <p:spPr>
          <a:xfrm>
            <a:off x="395280" y="10144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сто активитета за разблажене растворе користе се концентрациј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5" name="Object 5"/>
          <p:cNvGraphicFramePr/>
          <p:nvPr/>
        </p:nvGraphicFramePr>
        <p:xfrm>
          <a:off x="2340000" y="2087640"/>
          <a:ext cx="344160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087640"/>
                    <a:ext cx="344160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7" name="TextBox 3"/>
          <p:cNvSpPr/>
          <p:nvPr/>
        </p:nvSpPr>
        <p:spPr>
          <a:xfrm>
            <a:off x="108000" y="3213000"/>
            <a:ext cx="9360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ан је начин израчунавања електродног потенцијала различитих редокс пар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4"/>
          <p:cNvSpPr/>
          <p:nvPr/>
        </p:nvSpPr>
        <p:spPr>
          <a:xfrm>
            <a:off x="395280" y="42908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2"/>
          <p:cNvSpPr/>
          <p:nvPr/>
        </p:nvSpPr>
        <p:spPr>
          <a:xfrm>
            <a:off x="3172320" y="429192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⇆ Ag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Object 3"/>
              <p:cNvSpPr txBox="1"/>
              <p:nvPr/>
            </p:nvSpPr>
            <p:spPr>
              <a:xfrm>
                <a:off x="2700360" y="5013360"/>
                <a:ext cx="3875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 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p>
                        <m:sSub>
                          <m:e>
                            <m:r>
                              <m:t xml:space="preserve">∘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g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/ Ag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log 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g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951" name="Object 4"/>
          <p:cNvGraphicFramePr/>
          <p:nvPr/>
        </p:nvGraphicFramePr>
        <p:xfrm>
          <a:off x="2700360" y="6021360"/>
          <a:ext cx="4175280" cy="5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6021360"/>
                    <a:ext cx="41752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3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5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Box 2"/>
          <p:cNvSpPr/>
          <p:nvPr/>
        </p:nvSpPr>
        <p:spPr>
          <a:xfrm>
            <a:off x="468360" y="119700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2"/>
          <p:cNvSpPr/>
          <p:nvPr/>
        </p:nvSpPr>
        <p:spPr>
          <a:xfrm>
            <a:off x="3284640" y="119808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⇆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Object 3"/>
              <p:cNvSpPr txBox="1"/>
              <p:nvPr/>
            </p:nvSpPr>
            <p:spPr>
              <a:xfrm>
                <a:off x="2195640" y="2133720"/>
                <a:ext cx="408456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 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p>
                        <m:sSub>
                          <m:e>
                            <m:r>
                              <m:t xml:space="preserve">∘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 F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log 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8" name="TextBox 6"/>
          <p:cNvSpPr/>
          <p:nvPr/>
        </p:nvSpPr>
        <p:spPr>
          <a:xfrm>
            <a:off x="446040" y="3556080"/>
            <a:ext cx="244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2"/>
          <p:cNvSpPr/>
          <p:nvPr/>
        </p:nvSpPr>
        <p:spPr>
          <a:xfrm>
            <a:off x="2894040" y="3531960"/>
            <a:ext cx="522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4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6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⇆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7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0" name="Object 5"/>
              <p:cNvSpPr txBox="1"/>
              <p:nvPr/>
            </p:nvSpPr>
            <p:spPr>
              <a:xfrm>
                <a:off x="1652760" y="4784760"/>
                <a:ext cx="56037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 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p>
                        <m:sSub>
                          <m:e>
                            <m:r>
                              <m:t xml:space="preserve">∘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 C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log 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"/>
          <p:cNvPicPr/>
          <p:nvPr/>
        </p:nvPicPr>
        <p:blipFill>
          <a:blip r:embed="rId1"/>
          <a:srcRect l="32574" t="23253" r="25015" b="17687"/>
          <a:stretch/>
        </p:blipFill>
        <p:spPr>
          <a:xfrm>
            <a:off x="6078600" y="2738520"/>
            <a:ext cx="2906640" cy="227484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1"/>
          <p:cNvSpPr/>
          <p:nvPr/>
        </p:nvSpPr>
        <p:spPr>
          <a:xfrm>
            <a:off x="971640" y="96840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дардна водонична електрода (SHE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2"/>
          <p:cNvSpPr/>
          <p:nvPr/>
        </p:nvSpPr>
        <p:spPr>
          <a:xfrm>
            <a:off x="2885400" y="1628640"/>
            <a:ext cx="31521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2e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3"/>
          <p:cNvSpPr/>
          <p:nvPr/>
        </p:nvSpPr>
        <p:spPr>
          <a:xfrm>
            <a:off x="196920" y="2124000"/>
            <a:ext cx="891216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ча, превучена танким слоје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t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њена у раствор киселине чији је активитет једнак 1, кроз који се пропушта гасовит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стандардним условима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H+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, t =25º, 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1,325 kPa = 1 ba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5"/>
          <p:cNvSpPr/>
          <p:nvPr/>
        </p:nvSpPr>
        <p:spPr>
          <a:xfrm>
            <a:off x="243000" y="6035760"/>
            <a:ext cx="49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договор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sr-R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E) = 0,0</a:t>
            </a: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вим температур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6"/>
          <p:cNvSpPr/>
          <p:nvPr/>
        </p:nvSpPr>
        <p:spPr>
          <a:xfrm>
            <a:off x="219240" y="4869000"/>
            <a:ext cx="886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се размена електрона врши преко Pt, потенцијал који платина има је електродни потенцијал водоничне електроде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 водоничне електрод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 само од активитета водоничних јона у раствор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7" name="Object 8"/>
          <p:cNvGraphicFramePr/>
          <p:nvPr/>
        </p:nvGraphicFramePr>
        <p:xfrm>
          <a:off x="5580000" y="6164280"/>
          <a:ext cx="2320920" cy="51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0000" y="6164280"/>
                    <a:ext cx="23209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9" name="Object 9"/>
          <p:cNvGraphicFramePr/>
          <p:nvPr/>
        </p:nvGraphicFramePr>
        <p:xfrm>
          <a:off x="395280" y="3645000"/>
          <a:ext cx="5186520" cy="849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3645000"/>
                    <a:ext cx="51865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Box 1"/>
          <p:cNvSpPr/>
          <p:nvPr/>
        </p:nvSpPr>
        <p:spPr>
          <a:xfrm>
            <a:off x="1763640" y="1052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ење електродног потенциј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2"/>
          <p:cNvSpPr/>
          <p:nvPr/>
        </p:nvSpPr>
        <p:spPr>
          <a:xfrm>
            <a:off x="182520" y="1709640"/>
            <a:ext cx="87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који се јавља између метала и раствора не може се директно мерити, али се може мерити разлика потенцијала између две електрод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"/>
          <p:cNvSpPr/>
          <p:nvPr/>
        </p:nvSpPr>
        <p:spPr>
          <a:xfrm>
            <a:off x="179280" y="29098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разлика потенцијала између две електроде назива се електромоторна сила ћелије (EM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6"/>
          <p:cNvSpPr/>
          <p:nvPr/>
        </p:nvSpPr>
        <p:spPr>
          <a:xfrm>
            <a:off x="1358280" y="3933720"/>
            <a:ext cx="217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S = 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7"/>
          <p:cNvSpPr/>
          <p:nvPr/>
        </p:nvSpPr>
        <p:spPr>
          <a:xfrm>
            <a:off x="5651640" y="3679920"/>
            <a:ext cx="302400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лектрода чији се потенцијал одређу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S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Box 5"/>
          <p:cNvSpPr/>
          <p:nvPr/>
        </p:nvSpPr>
        <p:spPr>
          <a:xfrm>
            <a:off x="179280" y="4869000"/>
            <a:ext cx="84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једна (лева) електрода SHE (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0 V), а друга (десна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а она чији потенцијал одређујемо, EMS се дефинише као електродни потенцијал посматране електро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8"/>
          <p:cNvSpPr/>
          <p:nvPr/>
        </p:nvSpPr>
        <p:spPr>
          <a:xfrm>
            <a:off x="1474920" y="6237360"/>
            <a:ext cx="50767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S = 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H+/H</a:t>
            </a:r>
            <a:r>
              <a:rPr b="0" lang="en-US" sz="24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0,0 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8"/>
          <p:cNvSpPr/>
          <p:nvPr/>
        </p:nvSpPr>
        <p:spPr>
          <a:xfrm>
            <a:off x="1403280" y="9810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дардни електродни потенциј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3"/>
          <p:cNvSpPr/>
          <p:nvPr/>
        </p:nvSpPr>
        <p:spPr>
          <a:xfrm>
            <a:off x="179280" y="2205000"/>
            <a:ext cx="864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лева електрода SHE (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0 V), а десну електроду чини редокс пар чији потенцијал меримо при стандардним условима (активитет метала једнак је 1), измерена EMS биће стандардна EMS и представљаће стандардни електродни потенцијал те електро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1476360" y="4005360"/>
            <a:ext cx="50767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H+/H</a:t>
            </a:r>
            <a:r>
              <a:rPr b="0" lang="en-US" sz="24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0,0 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8"/>
          <p:cNvSpPr/>
          <p:nvPr/>
        </p:nvSpPr>
        <p:spPr>
          <a:xfrm>
            <a:off x="179280" y="5013360"/>
            <a:ext cx="851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и електродни потенцијал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је основна карактеристика оксидационо-редукционих особина сваког редокс па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4892760" y="5486400"/>
            <a:ext cx="421632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а, стандардна Cu електро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сна електрод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           Cu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4"/>
          <p:cNvSpPr/>
          <p:nvPr/>
        </p:nvSpPr>
        <p:spPr>
          <a:xfrm>
            <a:off x="351720" y="5486400"/>
            <a:ext cx="27925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а, SH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ева електрод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             2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q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5"/>
          <p:cNvSpPr/>
          <p:nvPr/>
        </p:nvSpPr>
        <p:spPr>
          <a:xfrm>
            <a:off x="320760" y="4695840"/>
            <a:ext cx="457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(g)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C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s)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H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6"/>
          <p:cNvSpPr/>
          <p:nvPr/>
        </p:nvSpPr>
        <p:spPr>
          <a:xfrm>
            <a:off x="936360" y="414180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Curved Down Arrow 7"/>
          <p:cNvSpPr/>
          <p:nvPr/>
        </p:nvSpPr>
        <p:spPr>
          <a:xfrm>
            <a:off x="760320" y="4479840"/>
            <a:ext cx="793800" cy="216000"/>
          </a:xfrm>
          <a:custGeom>
            <a:avLst/>
            <a:gdLst>
              <a:gd name="textAreaLeft" fmla="*/ 178200 w 793800"/>
              <a:gd name="textAreaRight" fmla="*/ 588600 w 7938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9" hR="21600" stAng="10800000" swAng="5400000"/>
                <a:lnTo>
                  <a:pt x="11167" y="0"/>
                </a:lnTo>
                <a:arcTo wR="9699" hR="21600" stAng="-5400000" swAng="3605944"/>
                <a:lnTo>
                  <a:pt x="21292" y="16200"/>
                </a:lnTo>
                <a:lnTo>
                  <a:pt x="20131" y="21600"/>
                </a:lnTo>
                <a:lnTo>
                  <a:pt x="18354" y="16200"/>
                </a:lnTo>
                <a:lnTo>
                  <a:pt x="19089" y="16200"/>
                </a:lnTo>
                <a:arcTo wR="9699" hR="21600" stAng="-1794056" swAng="-3488833"/>
                <a:lnTo>
                  <a:pt x="10433" y="62"/>
                </a:lnTo>
                <a:arcTo wR="9699" hR="21600" stAng="-5517110" swAng="-5282890"/>
                <a:close/>
              </a:path>
              <a:path fill="darkenLess" w="21600" h="21600">
                <a:moveTo>
                  <a:pt x="0" y="21600"/>
                </a:moveTo>
                <a:arcTo wR="9699" hR="21600" stAng="10800000" swAng="5400000"/>
                <a:lnTo>
                  <a:pt x="9699" y="0"/>
                </a:lnTo>
                <a:arcTo wR="9699" hR="21600" stAng="-5400000" swAng="117110"/>
                <a:lnTo>
                  <a:pt x="10433" y="62"/>
                </a:lnTo>
                <a:arcTo wR="9699" hR="21600" stAng="-5517110" swAng="-528289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8"/>
          <p:cNvSpPr/>
          <p:nvPr/>
        </p:nvSpPr>
        <p:spPr>
          <a:xfrm>
            <a:off x="360360" y="98100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дардни електродни потенцијал Cu елект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9"/>
          <p:cNvSpPr/>
          <p:nvPr/>
        </p:nvSpPr>
        <p:spPr>
          <a:xfrm>
            <a:off x="182520" y="3019320"/>
            <a:ext cx="356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тана редокс реакција се одвија с лева на десно, (како је написано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9" name="Object 1"/>
          <p:cNvGraphicFramePr/>
          <p:nvPr/>
        </p:nvGraphicFramePr>
        <p:xfrm>
          <a:off x="182520" y="2379600"/>
          <a:ext cx="403848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379600"/>
                    <a:ext cx="40384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91" name="Straight Arrow Connector 11"/>
          <p:cNvCxnSpPr/>
          <p:nvPr/>
        </p:nvCxnSpPr>
        <p:spPr>
          <a:xfrm>
            <a:off x="6156000" y="643068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2" name="Rectangle 12"/>
          <p:cNvSpPr/>
          <p:nvPr/>
        </p:nvSpPr>
        <p:spPr>
          <a:xfrm>
            <a:off x="6137640" y="6100920"/>
            <a:ext cx="6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3" name="Straight Arrow Connector 14"/>
          <p:cNvCxnSpPr/>
          <p:nvPr/>
        </p:nvCxnSpPr>
        <p:spPr>
          <a:xfrm>
            <a:off x="1222200" y="6465600"/>
            <a:ext cx="65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4" name="Rectangle 15"/>
          <p:cNvSpPr/>
          <p:nvPr/>
        </p:nvSpPr>
        <p:spPr>
          <a:xfrm>
            <a:off x="1207440" y="6091200"/>
            <a:ext cx="5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Group 20"/>
          <p:cNvGrpSpPr/>
          <p:nvPr/>
        </p:nvGrpSpPr>
        <p:grpSpPr>
          <a:xfrm>
            <a:off x="4734000" y="2552760"/>
            <a:ext cx="3600360" cy="2343600"/>
            <a:chOff x="4734000" y="2552760"/>
            <a:chExt cx="3600360" cy="2343600"/>
          </a:xfrm>
        </p:grpSpPr>
        <p:pic>
          <p:nvPicPr>
            <p:cNvPr id="996" name="Picture 3" descr=""/>
            <p:cNvPicPr/>
            <p:nvPr/>
          </p:nvPicPr>
          <p:blipFill>
            <a:blip r:embed="rId3"/>
            <a:srcRect l="47236" t="42126" r="20115" b="21457"/>
            <a:stretch/>
          </p:blipFill>
          <p:spPr>
            <a:xfrm>
              <a:off x="4734000" y="2552760"/>
              <a:ext cx="360036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TextBox 18"/>
            <p:cNvSpPr/>
            <p:nvPr/>
          </p:nvSpPr>
          <p:spPr>
            <a:xfrm>
              <a:off x="7614360" y="3232800"/>
              <a:ext cx="648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19"/>
            <p:cNvSpPr/>
            <p:nvPr/>
          </p:nvSpPr>
          <p:spPr>
            <a:xfrm>
              <a:off x="7484760" y="4497480"/>
              <a:ext cx="63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TextBox 3"/>
          <p:cNvSpPr/>
          <p:nvPr/>
        </p:nvSpPr>
        <p:spPr>
          <a:xfrm>
            <a:off x="205200" y="1514520"/>
            <a:ext cx="862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меримо           бакарне електроде галванска ћелија ће бити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Picture 21" descr=""/>
          <p:cNvPicPr/>
          <p:nvPr/>
        </p:nvPicPr>
        <p:blipFill>
          <a:blip r:embed="rId4"/>
          <a:stretch/>
        </p:blipFill>
        <p:spPr>
          <a:xfrm>
            <a:off x="1979640" y="1944720"/>
            <a:ext cx="6714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2"/>
          <p:cNvSpPr/>
          <p:nvPr/>
        </p:nvSpPr>
        <p:spPr>
          <a:xfrm>
            <a:off x="4067280" y="2251080"/>
            <a:ext cx="439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а EM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 има позитивну вредност и износи + 0,34 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катоде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34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"/>
          <p:cNvSpPr/>
          <p:nvPr/>
        </p:nvSpPr>
        <p:spPr>
          <a:xfrm>
            <a:off x="182520" y="4707000"/>
            <a:ext cx="88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договору, стандардни електродни потенцијал се приказује ка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и редукциони потенција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4"/>
          <p:cNvSpPr/>
          <p:nvPr/>
        </p:nvSpPr>
        <p:spPr>
          <a:xfrm>
            <a:off x="2314440" y="5380200"/>
            <a:ext cx="381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Cu2+/Cu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редукције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+ 0,34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5"/>
          <p:cNvSpPr/>
          <p:nvPr/>
        </p:nvSpPr>
        <p:spPr>
          <a:xfrm>
            <a:off x="182520" y="609300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вај начин су одређене вредности стандардних електродних потенцијала свих електрохемијских реак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9"/>
          <p:cNvGrpSpPr/>
          <p:nvPr/>
        </p:nvGrpSpPr>
        <p:grpSpPr>
          <a:xfrm>
            <a:off x="865080" y="1190520"/>
            <a:ext cx="2808360" cy="2013840"/>
            <a:chOff x="865080" y="1190520"/>
            <a:chExt cx="2808360" cy="2013840"/>
          </a:xfrm>
        </p:grpSpPr>
        <p:pic>
          <p:nvPicPr>
            <p:cNvPr id="1006" name="Picture 3" descr=""/>
            <p:cNvPicPr/>
            <p:nvPr/>
          </p:nvPicPr>
          <p:blipFill>
            <a:blip r:embed="rId1"/>
            <a:srcRect l="47236" t="42126" r="20115" b="21457"/>
            <a:stretch/>
          </p:blipFill>
          <p:spPr>
            <a:xfrm>
              <a:off x="865080" y="1190520"/>
              <a:ext cx="2808360" cy="191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7" name="TextBox 11"/>
            <p:cNvSpPr/>
            <p:nvPr/>
          </p:nvSpPr>
          <p:spPr>
            <a:xfrm>
              <a:off x="3111840" y="1765800"/>
              <a:ext cx="505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12"/>
            <p:cNvSpPr/>
            <p:nvPr/>
          </p:nvSpPr>
          <p:spPr>
            <a:xfrm>
              <a:off x="3013560" y="2836080"/>
              <a:ext cx="58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Rectangle 7"/>
          <p:cNvSpPr/>
          <p:nvPr/>
        </p:nvSpPr>
        <p:spPr>
          <a:xfrm>
            <a:off x="3816360" y="1596960"/>
            <a:ext cx="50767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H+/H</a:t>
            </a:r>
            <a:r>
              <a:rPr b="0" lang="en-US" sz="24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0,0 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3"/>
          <p:cNvSpPr/>
          <p:nvPr/>
        </p:nvSpPr>
        <p:spPr>
          <a:xfrm>
            <a:off x="154080" y="248616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E) = 0,0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4"/>
          <p:cNvSpPr/>
          <p:nvPr/>
        </p:nvSpPr>
        <p:spPr>
          <a:xfrm>
            <a:off x="182520" y="3454560"/>
            <a:ext cx="88567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тече спонтано с лева у десно →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већу тежњу ка отпуштању електрона него Cu →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јаче редукционо средство од C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има вишак електрона → (-) елект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електрода има мањак електрона → (+) електрода →             је позитив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21" descr=""/>
          <p:cNvPicPr/>
          <p:nvPr/>
        </p:nvPicPr>
        <p:blipFill>
          <a:blip r:embed="rId2"/>
          <a:stretch/>
        </p:blipFill>
        <p:spPr>
          <a:xfrm>
            <a:off x="6659640" y="4378320"/>
            <a:ext cx="67320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1"/>
          <p:cNvSpPr/>
          <p:nvPr/>
        </p:nvSpPr>
        <p:spPr>
          <a:xfrm>
            <a:off x="85320" y="371628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s) →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2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2416320" y="3728880"/>
            <a:ext cx="22744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а (SH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2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E) = 0,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3"/>
          <p:cNvSpPr/>
          <p:nvPr/>
        </p:nvSpPr>
        <p:spPr>
          <a:xfrm>
            <a:off x="7057440" y="3789360"/>
            <a:ext cx="205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2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M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4"/>
          <p:cNvSpPr/>
          <p:nvPr/>
        </p:nvSpPr>
        <p:spPr>
          <a:xfrm>
            <a:off x="4961160" y="3789360"/>
            <a:ext cx="21326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а (SH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→ 2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2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E) = 0,0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Picture 2" descr=""/>
          <p:cNvPicPr/>
          <p:nvPr/>
        </p:nvPicPr>
        <p:blipFill>
          <a:blip r:embed="rId1"/>
          <a:srcRect l="5808" t="41954" r="62097" b="21629"/>
          <a:stretch/>
        </p:blipFill>
        <p:spPr>
          <a:xfrm>
            <a:off x="539640" y="1197000"/>
            <a:ext cx="3498840" cy="223200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3" descr=""/>
          <p:cNvPicPr/>
          <p:nvPr/>
        </p:nvPicPr>
        <p:blipFill>
          <a:blip r:embed="rId2"/>
          <a:srcRect l="47236" t="42126" r="20115" b="21457"/>
          <a:stretch/>
        </p:blipFill>
        <p:spPr>
          <a:xfrm>
            <a:off x="5003640" y="1197000"/>
            <a:ext cx="3560760" cy="22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9" name=""/>
          <p:cNvGraphicFramePr/>
          <p:nvPr/>
        </p:nvGraphicFramePr>
        <p:xfrm>
          <a:off x="539640" y="5229360"/>
          <a:ext cx="3840120" cy="1137960"/>
        </p:xfrm>
        <a:graphic>
          <a:graphicData uri="http://schemas.openxmlformats.org/drawingml/2006/table">
            <a:tbl>
              <a:tblPr/>
              <a:tblGrid>
                <a:gridCol w="2665440"/>
                <a:gridCol w="11746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он метала/Ме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ө,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Z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0" name=""/>
          <p:cNvGraphicFramePr/>
          <p:nvPr/>
        </p:nvGraphicFramePr>
        <p:xfrm>
          <a:off x="4932360" y="5243400"/>
          <a:ext cx="3840120" cy="1138320"/>
        </p:xfrm>
        <a:graphic>
          <a:graphicData uri="http://schemas.openxmlformats.org/drawingml/2006/table">
            <a:tbl>
              <a:tblPr/>
              <a:tblGrid>
                <a:gridCol w="2736720"/>
                <a:gridCol w="1103400"/>
              </a:tblGrid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он метала/Ме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ө,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1"/>
          <p:cNvSpPr/>
          <p:nvPr/>
        </p:nvSpPr>
        <p:spPr>
          <a:xfrm>
            <a:off x="324000" y="1197000"/>
            <a:ext cx="8893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абел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ндардних електродних потенцијала електрохемијских реакциј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Picture 4" descr=""/>
          <p:cNvPicPr/>
          <p:nvPr/>
        </p:nvPicPr>
        <p:blipFill>
          <a:blip r:embed="rId1"/>
          <a:srcRect l="17130" t="23425" r="25649" b="15551"/>
          <a:stretch/>
        </p:blipFill>
        <p:spPr>
          <a:xfrm>
            <a:off x="900000" y="1989000"/>
            <a:ext cx="74455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TextBox 1"/>
          <p:cNvSpPr/>
          <p:nvPr/>
        </p:nvSpPr>
        <p:spPr>
          <a:xfrm>
            <a:off x="152280" y="1709640"/>
            <a:ext cx="896148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ан        значи да метал може да оксиду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ан         значи да метал може да редуку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абели стандардних електродних потенцијала редокс парови су поређани по величини њихових 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оксидовани облик редокс па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реаговати са  свим редукованим облицима редокс парова који се у табели налазе испод њ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јаче оксидационо средство 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јјача редукциона средства су алкални мет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2050920" y="1828800"/>
            <a:ext cx="549360" cy="3650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2" descr=""/>
          <p:cNvPicPr/>
          <p:nvPr/>
        </p:nvPicPr>
        <p:blipFill>
          <a:blip r:embed="rId2"/>
          <a:stretch/>
        </p:blipFill>
        <p:spPr>
          <a:xfrm>
            <a:off x="2050920" y="2193840"/>
            <a:ext cx="54936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2"/>
          <p:cNvSpPr/>
          <p:nvPr/>
        </p:nvSpPr>
        <p:spPr>
          <a:xfrm>
            <a:off x="252360" y="1003320"/>
            <a:ext cx="856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кс реакција се састоји из две полуреакције (оксидације и редукције), које се одигравај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време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ј размењених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уштених и примљених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а у једној редокс реакцији мора бити међусобно једнак, пошто 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бони електрони у раствору не посто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30"/>
          <p:cNvSpPr/>
          <p:nvPr/>
        </p:nvSpPr>
        <p:spPr>
          <a:xfrm>
            <a:off x="252360" y="3638520"/>
            <a:ext cx="475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Re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Re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31"/>
          <p:cNvSpPr/>
          <p:nvPr/>
        </p:nvSpPr>
        <p:spPr>
          <a:xfrm>
            <a:off x="252360" y="3565440"/>
            <a:ext cx="863640" cy="749520"/>
          </a:xfrm>
          <a:prstGeom prst="ellips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32"/>
          <p:cNvSpPr/>
          <p:nvPr/>
        </p:nvSpPr>
        <p:spPr>
          <a:xfrm>
            <a:off x="1368360" y="3486240"/>
            <a:ext cx="900000" cy="8175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traight Connector 33"/>
          <p:cNvSpPr/>
          <p:nvPr/>
        </p:nvSpPr>
        <p:spPr>
          <a:xfrm>
            <a:off x="684360" y="4314960"/>
            <a:ext cx="0" cy="161640"/>
          </a:xfrm>
          <a:prstGeom prst="line">
            <a:avLst/>
          </a:prstGeom>
          <a:ln w="22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34"/>
          <p:cNvSpPr/>
          <p:nvPr/>
        </p:nvSpPr>
        <p:spPr>
          <a:xfrm flipV="1">
            <a:off x="684360" y="4467240"/>
            <a:ext cx="2463480" cy="9360"/>
          </a:xfrm>
          <a:prstGeom prst="line">
            <a:avLst/>
          </a:prstGeom>
          <a:ln w="22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Straight Arrow Connector 35"/>
          <p:cNvCxnSpPr/>
          <p:nvPr/>
        </p:nvCxnSpPr>
        <p:spPr>
          <a:xfrm flipV="1">
            <a:off x="3141360" y="4154040"/>
            <a:ext cx="6840" cy="310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772" name="Straight Connector 36"/>
          <p:cNvSpPr/>
          <p:nvPr/>
        </p:nvSpPr>
        <p:spPr>
          <a:xfrm flipV="1">
            <a:off x="1817640" y="3304800"/>
            <a:ext cx="0" cy="18108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traight Connector 37"/>
          <p:cNvSpPr/>
          <p:nvPr/>
        </p:nvSpPr>
        <p:spPr>
          <a:xfrm>
            <a:off x="1817640" y="3305160"/>
            <a:ext cx="261000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4" name="Straight Arrow Connector 38"/>
          <p:cNvCxnSpPr/>
          <p:nvPr/>
        </p:nvCxnSpPr>
        <p:spPr>
          <a:xfrm>
            <a:off x="4427280" y="3305160"/>
            <a:ext cx="1080" cy="3340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75" name="TextBox 39"/>
          <p:cNvSpPr/>
          <p:nvPr/>
        </p:nvSpPr>
        <p:spPr>
          <a:xfrm>
            <a:off x="2338560" y="2852640"/>
            <a:ext cx="16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сид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40"/>
          <p:cNvSpPr/>
          <p:nvPr/>
        </p:nvSpPr>
        <p:spPr>
          <a:xfrm>
            <a:off x="1228680" y="4424400"/>
            <a:ext cx="15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дук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42"/>
          <p:cNvSpPr/>
          <p:nvPr/>
        </p:nvSpPr>
        <p:spPr>
          <a:xfrm>
            <a:off x="934920" y="2774880"/>
            <a:ext cx="54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е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2"/>
          <p:cNvSpPr/>
          <p:nvPr/>
        </p:nvSpPr>
        <p:spPr>
          <a:xfrm>
            <a:off x="3120120" y="50911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редукц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3108240" y="5583240"/>
            <a:ext cx="298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оксидац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11"/>
          <p:cNvSpPr/>
          <p:nvPr/>
        </p:nvSpPr>
        <p:spPr>
          <a:xfrm>
            <a:off x="5208840" y="4067280"/>
            <a:ext cx="362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овани облик чест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овани облик чест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размењених елект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136440" y="6138720"/>
            <a:ext cx="892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приказује прелаз електрона између два оксидацио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а  једне исте честице (јона, атома, молекул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rrow: Curved Right 24"/>
          <p:cNvSpPr/>
          <p:nvPr/>
        </p:nvSpPr>
        <p:spPr>
          <a:xfrm rot="5400000">
            <a:off x="1032480" y="2885040"/>
            <a:ext cx="268200" cy="936720"/>
          </a:xfrm>
          <a:custGeom>
            <a:avLst/>
            <a:gdLst>
              <a:gd name="textAreaLeft" fmla="*/ 35640 w 268200"/>
              <a:gd name="textAreaRight" fmla="*/ 232560 w 268200"/>
              <a:gd name="textAreaTop" fmla="*/ 208800 h 936720"/>
              <a:gd name="textAreaBottom" fmla="*/ 69408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40" stAng="-5400000" swAng="-5400000"/>
                <a:lnTo>
                  <a:pt x="0" y="11186"/>
                </a:lnTo>
                <a:arcTo wR="21600" hR="9640" stAng="10800000" swAng="-3596942"/>
                <a:lnTo>
                  <a:pt x="16200" y="21294"/>
                </a:lnTo>
                <a:lnTo>
                  <a:pt x="21600" y="20053"/>
                </a:lnTo>
                <a:lnTo>
                  <a:pt x="16200" y="18200"/>
                </a:lnTo>
                <a:lnTo>
                  <a:pt x="16200" y="18974"/>
                </a:lnTo>
                <a:arcTo wR="21600" hR="9640" stAng="7203058" swAng="3473571"/>
                <a:lnTo>
                  <a:pt x="70" y="10413"/>
                </a:lnTo>
                <a:arcTo wR="21600" hR="9640" stAng="-10676629" swAng="5276629"/>
                <a:close/>
              </a:path>
              <a:path fill="darkenLess" w="21600" h="21600">
                <a:moveTo>
                  <a:pt x="21600" y="0"/>
                </a:moveTo>
                <a:arcTo wR="21600" hR="9640" stAng="-5400000" swAng="-5400000"/>
                <a:lnTo>
                  <a:pt x="0" y="9640"/>
                </a:lnTo>
                <a:arcTo wR="21600" hR="9640" stAng="10800000" swAng="-123371"/>
                <a:lnTo>
                  <a:pt x="70" y="10413"/>
                </a:lnTo>
                <a:arcTo wR="21600" hR="9640" stAng="-10676629" swAng="5276629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2" descr=""/>
          <p:cNvPicPr/>
          <p:nvPr/>
        </p:nvPicPr>
        <p:blipFill>
          <a:blip r:embed="rId1"/>
          <a:stretch/>
        </p:blipFill>
        <p:spPr>
          <a:xfrm>
            <a:off x="614520" y="5019840"/>
            <a:ext cx="21636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1"/>
          <p:cNvSpPr/>
          <p:nvPr/>
        </p:nvSpPr>
        <p:spPr>
          <a:xfrm>
            <a:off x="0" y="1477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и стандардних електродних потенцијала представљају меру оксидационе, односно редукционе способности супстанце под стандардним условима; користе се за поређење јачине оксидационих, односно редукционих средста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2"/>
          <p:cNvSpPr/>
          <p:nvPr/>
        </p:nvSpPr>
        <p:spPr>
          <a:xfrm>
            <a:off x="1619280" y="1008000"/>
            <a:ext cx="59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сидациона и редукциона способнос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Up Arrow 4"/>
          <p:cNvSpPr/>
          <p:nvPr/>
        </p:nvSpPr>
        <p:spPr>
          <a:xfrm>
            <a:off x="1187280" y="2924280"/>
            <a:ext cx="1440000" cy="383364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3"/>
          <p:cNvSpPr/>
          <p:nvPr/>
        </p:nvSpPr>
        <p:spPr>
          <a:xfrm rot="5400000">
            <a:off x="101160" y="4635720"/>
            <a:ext cx="36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 ЈА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KСИДАЦИОНОГ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Down Arrow 6"/>
          <p:cNvSpPr/>
          <p:nvPr/>
        </p:nvSpPr>
        <p:spPr>
          <a:xfrm>
            <a:off x="6732720" y="3097080"/>
            <a:ext cx="1295280" cy="35719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5"/>
          <p:cNvSpPr/>
          <p:nvPr/>
        </p:nvSpPr>
        <p:spPr>
          <a:xfrm rot="5400000">
            <a:off x="5696640" y="4453920"/>
            <a:ext cx="33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 ЈА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KЦИОНОГ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Picture 2" descr=""/>
          <p:cNvPicPr/>
          <p:nvPr/>
        </p:nvPicPr>
        <p:blipFill>
          <a:blip r:embed="rId1"/>
          <a:srcRect l="26839" t="26206" r="33316" b="19656"/>
          <a:stretch/>
        </p:blipFill>
        <p:spPr>
          <a:xfrm>
            <a:off x="2627280" y="3284640"/>
            <a:ext cx="403380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1"/>
          <p:cNvSpPr/>
          <p:nvPr/>
        </p:nvSpPr>
        <p:spPr>
          <a:xfrm>
            <a:off x="395280" y="13730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је вредност Е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итивнија, примање електрона је лакше → јаче оксидационо сре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2"/>
          <p:cNvSpPr/>
          <p:nvPr/>
        </p:nvSpPr>
        <p:spPr>
          <a:xfrm>
            <a:off x="395280" y="2565360"/>
            <a:ext cx="60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+ 2e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F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8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3"/>
          <p:cNvSpPr/>
          <p:nvPr/>
        </p:nvSpPr>
        <p:spPr>
          <a:xfrm>
            <a:off x="2195640" y="3284640"/>
            <a:ext cx="48243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јако оксидационо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слабо редукционо сред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611280" y="4797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(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–3,0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6"/>
          <p:cNvSpPr/>
          <p:nvPr/>
        </p:nvSpPr>
        <p:spPr>
          <a:xfrm>
            <a:off x="2124000" y="5516640"/>
            <a:ext cx="4824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слабо оксидационо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јако редукционо сред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1"/>
          <p:cNvSpPr/>
          <p:nvPr/>
        </p:nvSpPr>
        <p:spPr>
          <a:xfrm>
            <a:off x="179280" y="1844640"/>
            <a:ext cx="4753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+ 2e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F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87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+ 2e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Cl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36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) + 2e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Br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06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 + 2e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I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54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3"/>
          <p:cNvSpPr/>
          <p:nvPr/>
        </p:nvSpPr>
        <p:spPr>
          <a:xfrm>
            <a:off x="5148360" y="1844640"/>
            <a:ext cx="381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ДА ОKСИДАЦИОНА СПОСОБ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јачина оксидационог средств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5905440" y="3357720"/>
            <a:ext cx="2185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B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Down Arrow 5"/>
          <p:cNvSpPr/>
          <p:nvPr/>
        </p:nvSpPr>
        <p:spPr>
          <a:xfrm>
            <a:off x="4932360" y="1916280"/>
            <a:ext cx="71280" cy="151272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324000" y="4005360"/>
            <a:ext cx="835164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бром може да оксидује хлорид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 до хлор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r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слабије оксидационо средство од хл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бром може да оксидује јодидни јон до јод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r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јаче оксидационо средство од ј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2268360" y="5950080"/>
            <a:ext cx="561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(l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(s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B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Box 1"/>
          <p:cNvSpPr/>
          <p:nvPr/>
        </p:nvSpPr>
        <p:spPr>
          <a:xfrm>
            <a:off x="189000" y="11746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1"/>
          <p:cNvSpPr/>
          <p:nvPr/>
        </p:nvSpPr>
        <p:spPr>
          <a:xfrm>
            <a:off x="2050920" y="1125360"/>
            <a:ext cx="457200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+ 2e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F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87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2e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00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e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(s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–3,04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2"/>
          <p:cNvSpPr/>
          <p:nvPr/>
        </p:nvSpPr>
        <p:spPr>
          <a:xfrm>
            <a:off x="324000" y="2492280"/>
            <a:ext cx="40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ДА ОKСИДАЦИОНА СПОСОБ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јачина оксидационог средств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3"/>
          <p:cNvSpPr/>
          <p:nvPr/>
        </p:nvSpPr>
        <p:spPr>
          <a:xfrm>
            <a:off x="1091880" y="3645000"/>
            <a:ext cx="2410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Cu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L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4"/>
          <p:cNvSpPr/>
          <p:nvPr/>
        </p:nvSpPr>
        <p:spPr>
          <a:xfrm>
            <a:off x="5003640" y="2492280"/>
            <a:ext cx="388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 РЕДУKЦИОНА СПОСОБ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јачина редукционог средств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5"/>
          <p:cNvSpPr/>
          <p:nvPr/>
        </p:nvSpPr>
        <p:spPr>
          <a:xfrm>
            <a:off x="5820840" y="3645000"/>
            <a:ext cx="21646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 &gt;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Cu &gt; F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6"/>
          <p:cNvSpPr/>
          <p:nvPr/>
        </p:nvSpPr>
        <p:spPr>
          <a:xfrm>
            <a:off x="179280" y="4292640"/>
            <a:ext cx="87854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бакар може да редуку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 до водоника (истисне водоник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слабије редукционо средство од водон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литијум може да редуку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 до бакра (истисне бакар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јаче редукционо средство од бак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7"/>
          <p:cNvSpPr/>
          <p:nvPr/>
        </p:nvSpPr>
        <p:spPr>
          <a:xfrm>
            <a:off x="1979640" y="6165720"/>
            <a:ext cx="532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Li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s)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u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Cu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s)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Li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1"/>
          <p:cNvSpPr/>
          <p:nvPr/>
        </p:nvSpPr>
        <p:spPr>
          <a:xfrm>
            <a:off x="179280" y="1484280"/>
            <a:ext cx="889344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моторна сила представља разлику потенцијала две полућелије (тј. две полуреакциј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 се као разлика стандардних електродних потенцијала оксидационог и редукционог средст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2"/>
          <p:cNvSpPr/>
          <p:nvPr/>
        </p:nvSpPr>
        <p:spPr>
          <a:xfrm>
            <a:off x="430200" y="981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рачунавање електромоторне силе 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3059280" y="2997360"/>
            <a:ext cx="2590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.С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.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4"/>
          <p:cNvSpPr/>
          <p:nvPr/>
        </p:nvSpPr>
        <p:spPr>
          <a:xfrm>
            <a:off x="1906560" y="362916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(s) + Cu</a:t>
            </a:r>
            <a:r>
              <a:rPr b="0" lang="pl-PL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→ Zn</a:t>
            </a:r>
            <a:r>
              <a:rPr b="0" lang="pl-PL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Cu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5"/>
          <p:cNvSpPr/>
          <p:nvPr/>
        </p:nvSpPr>
        <p:spPr>
          <a:xfrm>
            <a:off x="1906560" y="3943440"/>
            <a:ext cx="9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6"/>
          <p:cNvSpPr/>
          <p:nvPr/>
        </p:nvSpPr>
        <p:spPr>
          <a:xfrm>
            <a:off x="3057480" y="394344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7"/>
          <p:cNvSpPr/>
          <p:nvPr/>
        </p:nvSpPr>
        <p:spPr>
          <a:xfrm>
            <a:off x="1401840" y="4448160"/>
            <a:ext cx="69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          Z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n/Zn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.S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–0,76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Box 8"/>
          <p:cNvSpPr/>
          <p:nvPr/>
        </p:nvSpPr>
        <p:spPr>
          <a:xfrm>
            <a:off x="609480" y="444816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9"/>
          <p:cNvSpPr/>
          <p:nvPr/>
        </p:nvSpPr>
        <p:spPr>
          <a:xfrm>
            <a:off x="4065480" y="4879800"/>
            <a:ext cx="396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u) = 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.S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34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10"/>
          <p:cNvSpPr/>
          <p:nvPr/>
        </p:nvSpPr>
        <p:spPr>
          <a:xfrm>
            <a:off x="1424520" y="5095800"/>
            <a:ext cx="207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Cu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11"/>
          <p:cNvSpPr/>
          <p:nvPr/>
        </p:nvSpPr>
        <p:spPr>
          <a:xfrm>
            <a:off x="609480" y="509580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2"/>
          <p:cNvSpPr/>
          <p:nvPr/>
        </p:nvSpPr>
        <p:spPr>
          <a:xfrm>
            <a:off x="357120" y="5743440"/>
            <a:ext cx="52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.С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.С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34 – (–0,76) = 1,1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2" descr=""/>
          <p:cNvPicPr/>
          <p:nvPr/>
        </p:nvPicPr>
        <p:blipFill>
          <a:blip r:embed="rId1"/>
          <a:stretch/>
        </p:blipFill>
        <p:spPr>
          <a:xfrm>
            <a:off x="5938920" y="5384880"/>
            <a:ext cx="2689200" cy="1450800"/>
          </a:xfrm>
          <a:prstGeom prst="rect">
            <a:avLst/>
          </a:prstGeom>
          <a:ln w="0">
            <a:noFill/>
          </a:ln>
        </p:spPr>
      </p:pic>
      <p:sp>
        <p:nvSpPr>
          <p:cNvPr id="1065" name="Rectangle 14"/>
          <p:cNvSpPr/>
          <p:nvPr/>
        </p:nvSpPr>
        <p:spPr>
          <a:xfrm>
            <a:off x="1917360" y="4303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5"/>
          <p:cNvSpPr/>
          <p:nvPr/>
        </p:nvSpPr>
        <p:spPr>
          <a:xfrm>
            <a:off x="2003040" y="4952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7" name="Straight Arrow Connector 17"/>
          <p:cNvCxnSpPr/>
          <p:nvPr/>
        </p:nvCxnSpPr>
        <p:spPr>
          <a:xfrm>
            <a:off x="1906560" y="466380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8" name="Straight Arrow Connector 19"/>
          <p:cNvCxnSpPr/>
          <p:nvPr/>
        </p:nvCxnSpPr>
        <p:spPr>
          <a:xfrm>
            <a:off x="2122560" y="531144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9" name="Rectangle 2"/>
          <p:cNvSpPr/>
          <p:nvPr/>
        </p:nvSpPr>
        <p:spPr>
          <a:xfrm>
            <a:off x="187560" y="33973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2" descr=""/>
          <p:cNvPicPr/>
          <p:nvPr/>
        </p:nvPicPr>
        <p:blipFill>
          <a:blip r:embed="rId1"/>
          <a:stretch/>
        </p:blipFill>
        <p:spPr>
          <a:xfrm>
            <a:off x="5938920" y="364500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1071" name="Rectangle 1"/>
          <p:cNvSpPr/>
          <p:nvPr/>
        </p:nvSpPr>
        <p:spPr>
          <a:xfrm>
            <a:off x="2268360" y="1268280"/>
            <a:ext cx="525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(s) + 2H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→ Zn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"/>
          <p:cNvSpPr/>
          <p:nvPr/>
        </p:nvSpPr>
        <p:spPr>
          <a:xfrm>
            <a:off x="1281240" y="2276640"/>
            <a:ext cx="181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           Z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"/>
          <p:cNvSpPr/>
          <p:nvPr/>
        </p:nvSpPr>
        <p:spPr>
          <a:xfrm>
            <a:off x="1282320" y="2779560"/>
            <a:ext cx="1992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"/>
          <p:cNvSpPr/>
          <p:nvPr/>
        </p:nvSpPr>
        <p:spPr>
          <a:xfrm>
            <a:off x="4356000" y="2276640"/>
            <a:ext cx="457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n/Zn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ө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.С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0,76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5"/>
          <p:cNvSpPr/>
          <p:nvPr/>
        </p:nvSpPr>
        <p:spPr>
          <a:xfrm>
            <a:off x="4356000" y="2781360"/>
            <a:ext cx="358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E) = 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ө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.С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0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6"/>
          <p:cNvSpPr/>
          <p:nvPr/>
        </p:nvSpPr>
        <p:spPr>
          <a:xfrm>
            <a:off x="324000" y="4091040"/>
            <a:ext cx="52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.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–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.С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00 – (–0,76) = 0,76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Box 8"/>
          <p:cNvSpPr/>
          <p:nvPr/>
        </p:nvSpPr>
        <p:spPr>
          <a:xfrm>
            <a:off x="324000" y="2276640"/>
            <a:ext cx="9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9"/>
          <p:cNvSpPr/>
          <p:nvPr/>
        </p:nvSpPr>
        <p:spPr>
          <a:xfrm>
            <a:off x="324000" y="277956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10"/>
          <p:cNvSpPr/>
          <p:nvPr/>
        </p:nvSpPr>
        <p:spPr>
          <a:xfrm>
            <a:off x="2340000" y="1701720"/>
            <a:ext cx="71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Box 11"/>
          <p:cNvSpPr/>
          <p:nvPr/>
        </p:nvSpPr>
        <p:spPr>
          <a:xfrm>
            <a:off x="3276720" y="170028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1" name="Straight Arrow Connector 14"/>
          <p:cNvCxnSpPr/>
          <p:nvPr/>
        </p:nvCxnSpPr>
        <p:spPr>
          <a:xfrm>
            <a:off x="1763280" y="249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2" name="Rectangle 15"/>
          <p:cNvSpPr/>
          <p:nvPr/>
        </p:nvSpPr>
        <p:spPr>
          <a:xfrm>
            <a:off x="1805040" y="21337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3" name="Straight Arrow Connector 17"/>
          <p:cNvCxnSpPr/>
          <p:nvPr/>
        </p:nvCxnSpPr>
        <p:spPr>
          <a:xfrm>
            <a:off x="1908000" y="299700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4" name="Rectangle 19"/>
          <p:cNvSpPr/>
          <p:nvPr/>
        </p:nvSpPr>
        <p:spPr>
          <a:xfrm>
            <a:off x="1843560" y="26370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12"/>
          <p:cNvSpPr/>
          <p:nvPr/>
        </p:nvSpPr>
        <p:spPr>
          <a:xfrm>
            <a:off x="184320" y="5661000"/>
            <a:ext cx="85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и 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кције не зависе од стехиометријс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ефицијената, нити од броја размењених електр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1"/>
          <p:cNvSpPr/>
          <p:nvPr/>
        </p:nvSpPr>
        <p:spPr>
          <a:xfrm>
            <a:off x="1619280" y="1341360"/>
            <a:ext cx="595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M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2"/>
          <p:cNvSpPr/>
          <p:nvPr/>
        </p:nvSpPr>
        <p:spPr>
          <a:xfrm>
            <a:off x="1364400" y="253512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3"/>
          <p:cNvSpPr/>
          <p:nvPr/>
        </p:nvSpPr>
        <p:spPr>
          <a:xfrm>
            <a:off x="1224000" y="306864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5508720" y="2492280"/>
            <a:ext cx="20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.С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7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5435640" y="3141720"/>
            <a:ext cx="21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.С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51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6"/>
          <p:cNvSpPr/>
          <p:nvPr/>
        </p:nvSpPr>
        <p:spPr>
          <a:xfrm>
            <a:off x="611280" y="3933720"/>
            <a:ext cx="727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8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5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7"/>
          <p:cNvSpPr/>
          <p:nvPr/>
        </p:nvSpPr>
        <p:spPr>
          <a:xfrm>
            <a:off x="755640" y="4653000"/>
            <a:ext cx="532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.С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.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= 1,51 – 0,77 = 0,7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Box 8"/>
          <p:cNvSpPr/>
          <p:nvPr/>
        </p:nvSpPr>
        <p:spPr>
          <a:xfrm>
            <a:off x="324000" y="25369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Box 9"/>
          <p:cNvSpPr/>
          <p:nvPr/>
        </p:nvSpPr>
        <p:spPr>
          <a:xfrm>
            <a:off x="250920" y="30402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0"/>
          <p:cNvSpPr/>
          <p:nvPr/>
        </p:nvSpPr>
        <p:spPr>
          <a:xfrm>
            <a:off x="1692360" y="1773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Box 11"/>
          <p:cNvSpPr/>
          <p:nvPr/>
        </p:nvSpPr>
        <p:spPr>
          <a:xfrm>
            <a:off x="2556000" y="1773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12"/>
          <p:cNvSpPr/>
          <p:nvPr/>
        </p:nvSpPr>
        <p:spPr>
          <a:xfrm>
            <a:off x="250920" y="55166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и 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кције не зависе од стехиометриј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ефицијената, нити од броја размењених електр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8" name="Straight Arrow Connector 14"/>
          <p:cNvCxnSpPr/>
          <p:nvPr/>
        </p:nvCxnSpPr>
        <p:spPr>
          <a:xfrm>
            <a:off x="2050560" y="278100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9" name="Rectangle 15"/>
          <p:cNvSpPr/>
          <p:nvPr/>
        </p:nvSpPr>
        <p:spPr>
          <a:xfrm>
            <a:off x="2033640" y="23907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16"/>
          <p:cNvSpPr/>
          <p:nvPr/>
        </p:nvSpPr>
        <p:spPr>
          <a:xfrm>
            <a:off x="2054160" y="29973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5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1" name="Straight Arrow Connector 18"/>
          <p:cNvCxnSpPr/>
          <p:nvPr/>
        </p:nvCxnSpPr>
        <p:spPr>
          <a:xfrm>
            <a:off x="1979640" y="3357360"/>
            <a:ext cx="72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1"/>
          <p:cNvSpPr/>
          <p:nvPr/>
        </p:nvSpPr>
        <p:spPr>
          <a:xfrm>
            <a:off x="1476360" y="105264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виђање правца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редокс реакциј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3" name="Picture 2" descr=""/>
          <p:cNvPicPr/>
          <p:nvPr/>
        </p:nvPicPr>
        <p:blipFill>
          <a:blip r:embed="rId1"/>
          <a:stretch/>
        </p:blipFill>
        <p:spPr>
          <a:xfrm>
            <a:off x="5796000" y="1844640"/>
            <a:ext cx="1803240" cy="816120"/>
          </a:xfrm>
          <a:prstGeom prst="rect">
            <a:avLst/>
          </a:prstGeom>
          <a:ln w="0">
            <a:noFill/>
          </a:ln>
        </p:spPr>
      </p:pic>
      <p:sp>
        <p:nvSpPr>
          <p:cNvPr id="1104" name="Rectangle 3"/>
          <p:cNvSpPr/>
          <p:nvPr/>
        </p:nvSpPr>
        <p:spPr>
          <a:xfrm>
            <a:off x="611280" y="1989000"/>
            <a:ext cx="408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Re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Re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O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Box 4"/>
          <p:cNvSpPr/>
          <p:nvPr/>
        </p:nvSpPr>
        <p:spPr>
          <a:xfrm>
            <a:off x="176040" y="2637000"/>
            <a:ext cx="842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S између редокс парова применом Нерстове једначине може 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ати ка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6" name="Object 5"/>
          <p:cNvGraphicFramePr/>
          <p:nvPr/>
        </p:nvGraphicFramePr>
        <p:xfrm>
          <a:off x="1835280" y="3357720"/>
          <a:ext cx="4400280" cy="127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3357720"/>
                    <a:ext cx="440028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8" name="TextBox 6"/>
          <p:cNvSpPr/>
          <p:nvPr/>
        </p:nvSpPr>
        <p:spPr>
          <a:xfrm>
            <a:off x="261720" y="5013360"/>
            <a:ext cx="52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равнотеже је                             сл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9" name="Object 7"/>
          <p:cNvGraphicFramePr/>
          <p:nvPr/>
        </p:nvGraphicFramePr>
        <p:xfrm>
          <a:off x="3106800" y="4869000"/>
          <a:ext cx="1536480" cy="74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06800" y="4869000"/>
                    <a:ext cx="153648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1" name="Object 8"/>
          <p:cNvGraphicFramePr/>
          <p:nvPr/>
        </p:nvGraphicFramePr>
        <p:xfrm>
          <a:off x="700200" y="5877000"/>
          <a:ext cx="4867200" cy="55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2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0200" y="5877000"/>
                    <a:ext cx="48672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3" name="Object 4"/>
          <p:cNvGraphicFramePr/>
          <p:nvPr/>
        </p:nvGraphicFramePr>
        <p:xfrm>
          <a:off x="395280" y="2349360"/>
          <a:ext cx="55468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49360"/>
                    <a:ext cx="55468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TextBox 5"/>
          <p:cNvSpPr/>
          <p:nvPr/>
        </p:nvSpPr>
        <p:spPr>
          <a:xfrm>
            <a:off x="349920" y="1700280"/>
            <a:ext cx="82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је спонтана, равнотежа померена на десну стр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Box 6"/>
          <p:cNvSpPr/>
          <p:nvPr/>
        </p:nvSpPr>
        <p:spPr>
          <a:xfrm>
            <a:off x="396000" y="98100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лов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9"/>
          <p:cNvSpPr/>
          <p:nvPr/>
        </p:nvSpPr>
        <p:spPr>
          <a:xfrm>
            <a:off x="345960" y="3105000"/>
            <a:ext cx="83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није спонтана, равнотежа померена у леву стр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8" name="Object 10"/>
          <p:cNvGraphicFramePr/>
          <p:nvPr/>
        </p:nvGraphicFramePr>
        <p:xfrm>
          <a:off x="468360" y="3687840"/>
          <a:ext cx="532764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3687840"/>
                    <a:ext cx="5327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0" name="Rectangle 11"/>
          <p:cNvSpPr/>
          <p:nvPr/>
        </p:nvSpPr>
        <p:spPr>
          <a:xfrm>
            <a:off x="287280" y="443700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тежно стање 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1" name="Object 12"/>
          <p:cNvGraphicFramePr/>
          <p:nvPr/>
        </p:nvGraphicFramePr>
        <p:xfrm>
          <a:off x="620640" y="5119560"/>
          <a:ext cx="451656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2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0640" y="5119560"/>
                    <a:ext cx="45165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2"/>
          <p:cNvSpPr/>
          <p:nvPr/>
        </p:nvSpPr>
        <p:spPr>
          <a:xfrm>
            <a:off x="324000" y="2708280"/>
            <a:ext cx="84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редност електромоторне силе у реалним условима утич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е силе раство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вредност раств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комплексира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таложе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1"/>
          <p:cNvSpPr/>
          <p:nvPr/>
        </p:nvSpPr>
        <p:spPr>
          <a:xfrm>
            <a:off x="505440" y="141300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ицај различитих фактора на редокс потенциј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Box 1"/>
          <p:cNvSpPr/>
          <p:nvPr/>
        </p:nvSpPr>
        <p:spPr>
          <a:xfrm>
            <a:off x="1438200" y="3643200"/>
            <a:ext cx="395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+  2HCl  → Zn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"/>
          <p:cNvSpPr/>
          <p:nvPr/>
        </p:nvSpPr>
        <p:spPr>
          <a:xfrm>
            <a:off x="1438200" y="3611520"/>
            <a:ext cx="566640" cy="573120"/>
          </a:xfrm>
          <a:prstGeom prst="ellips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3"/>
          <p:cNvSpPr/>
          <p:nvPr/>
        </p:nvSpPr>
        <p:spPr>
          <a:xfrm>
            <a:off x="2211480" y="3548160"/>
            <a:ext cx="869760" cy="7952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traight Connector 4"/>
          <p:cNvSpPr/>
          <p:nvPr/>
        </p:nvSpPr>
        <p:spPr>
          <a:xfrm>
            <a:off x="1722600" y="4184640"/>
            <a:ext cx="0" cy="395280"/>
          </a:xfrm>
          <a:prstGeom prst="line">
            <a:avLst/>
          </a:prstGeom>
          <a:ln w="22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traight Connector 5"/>
          <p:cNvSpPr/>
          <p:nvPr/>
        </p:nvSpPr>
        <p:spPr>
          <a:xfrm>
            <a:off x="1722600" y="4579920"/>
            <a:ext cx="1977840" cy="0"/>
          </a:xfrm>
          <a:prstGeom prst="line">
            <a:avLst/>
          </a:prstGeom>
          <a:ln w="22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" name="Straight Arrow Connector 6"/>
          <p:cNvCxnSpPr/>
          <p:nvPr/>
        </p:nvCxnSpPr>
        <p:spPr>
          <a:xfrm flipV="1">
            <a:off x="3700080" y="4147560"/>
            <a:ext cx="1080" cy="43236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790" name="Straight Connector 7"/>
          <p:cNvSpPr/>
          <p:nvPr/>
        </p:nvSpPr>
        <p:spPr>
          <a:xfrm flipV="1">
            <a:off x="2646360" y="3211200"/>
            <a:ext cx="0" cy="3366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traight Connector 8"/>
          <p:cNvSpPr/>
          <p:nvPr/>
        </p:nvSpPr>
        <p:spPr>
          <a:xfrm>
            <a:off x="2646360" y="3225960"/>
            <a:ext cx="223992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2" name="Straight Arrow Connector 9"/>
          <p:cNvCxnSpPr/>
          <p:nvPr/>
        </p:nvCxnSpPr>
        <p:spPr>
          <a:xfrm>
            <a:off x="4898520" y="3225600"/>
            <a:ext cx="1080" cy="3610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93" name="TextBox 10"/>
          <p:cNvSpPr/>
          <p:nvPr/>
        </p:nvSpPr>
        <p:spPr>
          <a:xfrm>
            <a:off x="1844640" y="453852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сид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1"/>
          <p:cNvSpPr/>
          <p:nvPr/>
        </p:nvSpPr>
        <p:spPr>
          <a:xfrm>
            <a:off x="3011400" y="2751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ду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Curved Down Arrow 12"/>
          <p:cNvSpPr/>
          <p:nvPr/>
        </p:nvSpPr>
        <p:spPr>
          <a:xfrm>
            <a:off x="1625760" y="3152880"/>
            <a:ext cx="1008000" cy="360360"/>
          </a:xfrm>
          <a:custGeom>
            <a:avLst/>
            <a:gdLst>
              <a:gd name="textAreaLeft" fmla="*/ 218160 w 1008000"/>
              <a:gd name="textAreaRight" fmla="*/ 744840 w 1008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52" hR="21600" stAng="10800000" swAng="5400000"/>
                <a:lnTo>
                  <a:pt x="11283" y="0"/>
                </a:lnTo>
                <a:arcTo wR="9352" hR="21600" stAng="-5400000" swAng="3551407"/>
                <a:lnTo>
                  <a:pt x="21303" y="16200"/>
                </a:lnTo>
                <a:lnTo>
                  <a:pt x="19670" y="21600"/>
                </a:lnTo>
                <a:lnTo>
                  <a:pt x="17442" y="16200"/>
                </a:lnTo>
                <a:lnTo>
                  <a:pt x="18407" y="16200"/>
                </a:lnTo>
                <a:arcTo wR="9352" hR="21600" stAng="-1848593" swAng="-3397022"/>
                <a:lnTo>
                  <a:pt x="10318" y="115"/>
                </a:lnTo>
                <a:arcTo wR="9352" hR="21600" stAng="-5554386" swAng="-5245614"/>
                <a:close/>
              </a:path>
              <a:path fill="darkenLess" w="21600" h="21600">
                <a:moveTo>
                  <a:pt x="0" y="21600"/>
                </a:moveTo>
                <a:arcTo wR="9352" hR="21600" stAng="10800000" swAng="5400000"/>
                <a:lnTo>
                  <a:pt x="9352" y="0"/>
                </a:lnTo>
                <a:arcTo wR="9352" hR="21600" stAng="-5400000" swAng="154386"/>
                <a:lnTo>
                  <a:pt x="10318" y="115"/>
                </a:lnTo>
                <a:arcTo wR="9352" hR="21600" stAng="-5554386" swAng="-5245614"/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3"/>
          <p:cNvSpPr/>
          <p:nvPr/>
        </p:nvSpPr>
        <p:spPr>
          <a:xfrm>
            <a:off x="1844640" y="27687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е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1"/>
          <p:cNvSpPr/>
          <p:nvPr/>
        </p:nvSpPr>
        <p:spPr>
          <a:xfrm>
            <a:off x="248400" y="72396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5"/>
          <p:cNvSpPr/>
          <p:nvPr/>
        </p:nvSpPr>
        <p:spPr>
          <a:xfrm>
            <a:off x="7198920" y="180972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7198560" y="226836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182520" y="5121360"/>
            <a:ext cx="86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10081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очигледног преласка 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ко се може одредити оксидацио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оно средств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19"/>
          <p:cNvSpPr/>
          <p:nvPr/>
        </p:nvSpPr>
        <p:spPr>
          <a:xfrm>
            <a:off x="274680" y="5851440"/>
            <a:ext cx="72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отпушта 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оксидује се → редукционо сред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 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редукује се → оксидационо сред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1" descr=""/>
          <p:cNvPicPr/>
          <p:nvPr/>
        </p:nvPicPr>
        <p:blipFill>
          <a:blip r:embed="rId1"/>
          <a:stretch/>
        </p:blipFill>
        <p:spPr>
          <a:xfrm>
            <a:off x="407880" y="1763640"/>
            <a:ext cx="3606840" cy="49680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3" descr=""/>
          <p:cNvPicPr/>
          <p:nvPr/>
        </p:nvPicPr>
        <p:blipFill>
          <a:blip r:embed="rId2"/>
          <a:stretch/>
        </p:blipFill>
        <p:spPr>
          <a:xfrm>
            <a:off x="5065560" y="1760400"/>
            <a:ext cx="216540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3"/>
          <p:cNvSpPr/>
          <p:nvPr/>
        </p:nvSpPr>
        <p:spPr>
          <a:xfrm>
            <a:off x="1908000" y="105264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ицај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онске силе 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4"/>
          <p:cNvSpPr/>
          <p:nvPr/>
        </p:nvSpPr>
        <p:spPr>
          <a:xfrm>
            <a:off x="250920" y="155736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вантитативна веза између Е редокс реакције и концентрације, ако фактори активитета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же јединиц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5"/>
          <p:cNvSpPr/>
          <p:nvPr/>
        </p:nvSpPr>
        <p:spPr>
          <a:xfrm>
            <a:off x="4932360" y="2565360"/>
            <a:ext cx="30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⇒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нстова једнач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8" name="Object 5"/>
          <p:cNvGraphicFramePr/>
          <p:nvPr/>
        </p:nvGraphicFramePr>
        <p:xfrm>
          <a:off x="2050920" y="2421000"/>
          <a:ext cx="280836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421000"/>
                    <a:ext cx="280836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0" name="TextBox 6"/>
          <p:cNvSpPr/>
          <p:nvPr/>
        </p:nvSpPr>
        <p:spPr>
          <a:xfrm>
            <a:off x="468360" y="3357720"/>
            <a:ext cx="17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≠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1" name="Object 4"/>
          <p:cNvGraphicFramePr/>
          <p:nvPr/>
        </p:nvGraphicFramePr>
        <p:xfrm>
          <a:off x="2270160" y="3240000"/>
          <a:ext cx="2606760" cy="7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70160" y="3240000"/>
                    <a:ext cx="260676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3" name="Object 5"/>
          <p:cNvGraphicFramePr/>
          <p:nvPr/>
        </p:nvGraphicFramePr>
        <p:xfrm>
          <a:off x="5870520" y="3311640"/>
          <a:ext cx="1144800" cy="43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70520" y="3311640"/>
                    <a:ext cx="114480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5" name="Object 6"/>
          <p:cNvGraphicFramePr/>
          <p:nvPr/>
        </p:nvGraphicFramePr>
        <p:xfrm>
          <a:off x="2268360" y="4176720"/>
          <a:ext cx="4537080" cy="76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4176720"/>
                    <a:ext cx="45370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7" name="TextBox 10"/>
          <p:cNvSpPr/>
          <p:nvPr/>
        </p:nvSpPr>
        <p:spPr>
          <a:xfrm>
            <a:off x="179280" y="4941720"/>
            <a:ext cx="525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нстантној јонској сили раств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8" name="Object 7"/>
          <p:cNvGraphicFramePr/>
          <p:nvPr/>
        </p:nvGraphicFramePr>
        <p:xfrm>
          <a:off x="2124000" y="5445000"/>
          <a:ext cx="4537080" cy="76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24000" y="5445000"/>
                    <a:ext cx="453708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0" name="Right Brace 12"/>
          <p:cNvSpPr/>
          <p:nvPr/>
        </p:nvSpPr>
        <p:spPr>
          <a:xfrm rot="5400000">
            <a:off x="3528000" y="5193360"/>
            <a:ext cx="287640" cy="2232000"/>
          </a:xfrm>
          <a:custGeom>
            <a:avLst/>
            <a:gdLst>
              <a:gd name="textAreaLeft" fmla="*/ 0 w 287640"/>
              <a:gd name="textAreaRight" fmla="*/ 103680 w 287640"/>
              <a:gd name="textAreaTop" fmla="*/ 7200 h 2232000"/>
              <a:gd name="textAreaBottom" fmla="*/ 22248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16200" y="10800"/>
                  <a:pt x="21600" y="10800"/>
                </a:cubicBezTo>
                <a:cubicBezTo>
                  <a:pt x="162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1" name="Object 8"/>
          <p:cNvGraphicFramePr/>
          <p:nvPr/>
        </p:nvGraphicFramePr>
        <p:xfrm>
          <a:off x="3564000" y="6429240"/>
          <a:ext cx="422280" cy="31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2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4000" y="6429240"/>
                    <a:ext cx="42228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Box 2"/>
          <p:cNvSpPr/>
          <p:nvPr/>
        </p:nvSpPr>
        <p:spPr>
          <a:xfrm>
            <a:off x="250920" y="134136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sr-R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`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овни потенцијал – представља потенцијал датог редок пара (у односу 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да су концентрације оксидованог и редукованог облика једнаке 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L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да су познате концентрације других компоненти у раствору (због јонске јачине раствора)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4" name="Object 4"/>
          <p:cNvGraphicFramePr/>
          <p:nvPr/>
        </p:nvGraphicFramePr>
        <p:xfrm>
          <a:off x="1762200" y="3284640"/>
          <a:ext cx="115416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3284640"/>
                    <a:ext cx="11541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6" name="Object 5"/>
          <p:cNvGraphicFramePr/>
          <p:nvPr/>
        </p:nvGraphicFramePr>
        <p:xfrm>
          <a:off x="4067280" y="3286080"/>
          <a:ext cx="324144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3286080"/>
                    <a:ext cx="32414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8" name="TextBox 6"/>
          <p:cNvSpPr/>
          <p:nvPr/>
        </p:nvSpPr>
        <p:spPr>
          <a:xfrm>
            <a:off x="3132000" y="3357720"/>
            <a:ext cx="9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245880" y="4575240"/>
            <a:ext cx="85608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и потенцијал редокс пар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налази у раствор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ц.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L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зноси 0,7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онц.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L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оси 0,6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TextBox 11"/>
          <p:cNvSpPr/>
          <p:nvPr/>
        </p:nvSpPr>
        <p:spPr>
          <a:xfrm>
            <a:off x="3564000" y="1052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ицај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2"/>
          <p:cNvSpPr/>
          <p:nvPr/>
        </p:nvSpPr>
        <p:spPr>
          <a:xfrm>
            <a:off x="324000" y="184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у полуреакцији учествују хидронијум или хидроксидни јони, електродни потенцијал зависи од pH раст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Box 3"/>
          <p:cNvSpPr/>
          <p:nvPr/>
        </p:nvSpPr>
        <p:spPr>
          <a:xfrm>
            <a:off x="1908000" y="2924280"/>
            <a:ext cx="460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 + m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n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d + q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3" name="Object 3"/>
              <p:cNvSpPr txBox="1"/>
              <p:nvPr/>
            </p:nvSpPr>
            <p:spPr>
              <a:xfrm>
                <a:off x="1835280" y="3933720"/>
                <a:ext cx="4616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ed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4" name="TextBox 5"/>
          <p:cNvSpPr/>
          <p:nvPr/>
        </p:nvSpPr>
        <p:spPr>
          <a:xfrm>
            <a:off x="468360" y="5445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а pH вредности раствора може изазвати велику промену потенциј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1"/>
          <p:cNvSpPr/>
          <p:nvPr/>
        </p:nvSpPr>
        <p:spPr>
          <a:xfrm>
            <a:off x="34920" y="100332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нстова једначина може да се користи и за одређивање електродног потенцијала полуреакци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2"/>
          <p:cNvSpPr/>
          <p:nvPr/>
        </p:nvSpPr>
        <p:spPr>
          <a:xfrm>
            <a:off x="2197080" y="1773360"/>
            <a:ext cx="4822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8H</a:t>
            </a:r>
            <a:r>
              <a:rPr b="1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e</a:t>
            </a:r>
            <a:r>
              <a:rPr b="1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1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H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108000" y="4397400"/>
            <a:ext cx="896472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порастом концентрације оксидационог средства (смањењ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 редукционог средства) долази до пораста електродно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порастом концентраци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, тј. смањење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лази д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ста електродног потенцијала; због експонента овај утицај је веома израже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Object 3"/>
              <p:cNvSpPr txBox="1"/>
              <p:nvPr/>
            </p:nvSpPr>
            <p:spPr>
              <a:xfrm>
                <a:off x="2340000" y="3478320"/>
                <a:ext cx="41274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59" name="Object 5"/>
          <p:cNvGraphicFramePr/>
          <p:nvPr/>
        </p:nvGraphicFramePr>
        <p:xfrm>
          <a:off x="2700360" y="2517840"/>
          <a:ext cx="289548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517840"/>
                    <a:ext cx="28954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1"/>
          <p:cNvSpPr/>
          <p:nvPr/>
        </p:nvSpPr>
        <p:spPr>
          <a:xfrm>
            <a:off x="2556000" y="3571920"/>
            <a:ext cx="3816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3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(s)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,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0" lang="de-DE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e– </a:t>
            </a:r>
            <a:r>
              <a:rPr b="0" lang="sr-Latn-C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(s)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,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e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C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(s)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,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e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H2(g)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0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e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e(s)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0,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e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Zn(s)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0,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3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(s)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,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e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g(s)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2,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C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(s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2,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(s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3,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2"/>
          <p:cNvSpPr/>
          <p:nvPr/>
        </p:nvSpPr>
        <p:spPr>
          <a:xfrm>
            <a:off x="2340000" y="166068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леменити метали    племенити ме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3"/>
          <p:cNvSpPr/>
          <p:nvPr/>
        </p:nvSpPr>
        <p:spPr>
          <a:xfrm>
            <a:off x="1835280" y="2381400"/>
            <a:ext cx="597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...Na...Mg...Al...Zn...Fe...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Cu...Ag...Au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4"/>
          <p:cNvSpPr/>
          <p:nvPr/>
        </p:nvSpPr>
        <p:spPr>
          <a:xfrm>
            <a:off x="1781640" y="2924280"/>
            <a:ext cx="7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5"/>
          <p:cNvSpPr/>
          <p:nvPr/>
        </p:nvSpPr>
        <p:spPr>
          <a:xfrm>
            <a:off x="5382000" y="3141720"/>
            <a:ext cx="7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traight Connector 11"/>
          <p:cNvSpPr/>
          <p:nvPr/>
        </p:nvSpPr>
        <p:spPr>
          <a:xfrm flipV="1">
            <a:off x="4930920" y="2133720"/>
            <a:ext cx="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traight Connector 12"/>
          <p:cNvSpPr/>
          <p:nvPr/>
        </p:nvSpPr>
        <p:spPr>
          <a:xfrm flipV="1">
            <a:off x="4786200" y="2133720"/>
            <a:ext cx="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8" name="Straight Arrow Connector 18"/>
          <p:cNvCxnSpPr/>
          <p:nvPr/>
        </p:nvCxnSpPr>
        <p:spPr>
          <a:xfrm>
            <a:off x="4930920" y="2133360"/>
            <a:ext cx="172944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169" name="Straight Arrow Connector 20"/>
          <p:cNvCxnSpPr/>
          <p:nvPr/>
        </p:nvCxnSpPr>
        <p:spPr>
          <a:xfrm flipH="1">
            <a:off x="2409120" y="2133360"/>
            <a:ext cx="237708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170" name="Straight Connector 21"/>
          <p:cNvSpPr/>
          <p:nvPr/>
        </p:nvSpPr>
        <p:spPr>
          <a:xfrm flipV="1">
            <a:off x="4859280" y="2781360"/>
            <a:ext cx="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Box 22"/>
          <p:cNvSpPr/>
          <p:nvPr/>
        </p:nvSpPr>
        <p:spPr>
          <a:xfrm>
            <a:off x="4714920" y="3141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2" name="Straight Arrow Connector 24"/>
          <p:cNvCxnSpPr/>
          <p:nvPr/>
        </p:nvCxnSpPr>
        <p:spPr>
          <a:xfrm>
            <a:off x="1617840" y="2852280"/>
            <a:ext cx="547416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173" name="Rectangle 25"/>
          <p:cNvSpPr/>
          <p:nvPr/>
        </p:nvSpPr>
        <p:spPr>
          <a:xfrm>
            <a:off x="2627280" y="1125360"/>
            <a:ext cx="38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понски низ мет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1"/>
          <p:cNvSpPr/>
          <p:nvPr/>
        </p:nvSpPr>
        <p:spPr>
          <a:xfrm>
            <a:off x="2700360" y="3147840"/>
            <a:ext cx="387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да редукциона способ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2"/>
          <p:cNvSpPr/>
          <p:nvPr/>
        </p:nvSpPr>
        <p:spPr>
          <a:xfrm>
            <a:off x="1908000" y="1204920"/>
            <a:ext cx="532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леменити метали    племенити мета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3"/>
          <p:cNvSpPr/>
          <p:nvPr/>
        </p:nvSpPr>
        <p:spPr>
          <a:xfrm>
            <a:off x="1258920" y="1924200"/>
            <a:ext cx="5975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...Na...Mg...Al...Zn...Fe...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Cu...Ag...Au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5"/>
          <p:cNvSpPr/>
          <p:nvPr/>
        </p:nvSpPr>
        <p:spPr>
          <a:xfrm>
            <a:off x="6381360" y="2428920"/>
            <a:ext cx="78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traight Connector 6"/>
          <p:cNvSpPr/>
          <p:nvPr/>
        </p:nvSpPr>
        <p:spPr>
          <a:xfrm flipV="1">
            <a:off x="4716360" y="1636200"/>
            <a:ext cx="0" cy="287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traight Connector 7"/>
          <p:cNvSpPr/>
          <p:nvPr/>
        </p:nvSpPr>
        <p:spPr>
          <a:xfrm flipV="1">
            <a:off x="4572000" y="1636200"/>
            <a:ext cx="0" cy="287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0" name="Straight Arrow Connector 8"/>
          <p:cNvCxnSpPr/>
          <p:nvPr/>
        </p:nvCxnSpPr>
        <p:spPr>
          <a:xfrm>
            <a:off x="4716360" y="1636200"/>
            <a:ext cx="172800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181" name="Straight Arrow Connector 9"/>
          <p:cNvCxnSpPr/>
          <p:nvPr/>
        </p:nvCxnSpPr>
        <p:spPr>
          <a:xfrm flipH="1">
            <a:off x="2194920" y="1636200"/>
            <a:ext cx="237708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182" name="Straight Connector 10"/>
          <p:cNvSpPr/>
          <p:nvPr/>
        </p:nvSpPr>
        <p:spPr>
          <a:xfrm flipV="1">
            <a:off x="4643280" y="2284560"/>
            <a:ext cx="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11"/>
          <p:cNvSpPr/>
          <p:nvPr/>
        </p:nvSpPr>
        <p:spPr>
          <a:xfrm>
            <a:off x="4500720" y="264492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4" name="Straight Arrow Connector 12"/>
          <p:cNvCxnSpPr/>
          <p:nvPr/>
        </p:nvCxnSpPr>
        <p:spPr>
          <a:xfrm>
            <a:off x="1402920" y="2355480"/>
            <a:ext cx="547272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185" name="Straight Arrow Connector 14"/>
          <p:cNvCxnSpPr/>
          <p:nvPr/>
        </p:nvCxnSpPr>
        <p:spPr>
          <a:xfrm>
            <a:off x="2195640" y="3076200"/>
            <a:ext cx="468072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186" name="Rectangle 15"/>
          <p:cNvSpPr/>
          <p:nvPr/>
        </p:nvSpPr>
        <p:spPr>
          <a:xfrm>
            <a:off x="179280" y="3797280"/>
            <a:ext cx="4572000" cy="28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леменити метал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редукциона сре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се оксиду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 кородира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ују са разблаженим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киселин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ј. с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ом уз истискивањ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6"/>
          <p:cNvSpPr/>
          <p:nvPr/>
        </p:nvSpPr>
        <p:spPr>
          <a:xfrm>
            <a:off x="4572000" y="3803760"/>
            <a:ext cx="457200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менити метал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 реактив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еагују са разблаженим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иселин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ј. с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ом уз истискивањ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1"/>
          <p:cNvSpPr/>
          <p:nvPr/>
        </p:nvSpPr>
        <p:spPr>
          <a:xfrm>
            <a:off x="179280" y="2852640"/>
            <a:ext cx="8713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бакар може да редуку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 до сребра (истисне сребро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јаче редукционо средство од среб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"/>
          <p:cNvSpPr/>
          <p:nvPr/>
        </p:nvSpPr>
        <p:spPr>
          <a:xfrm>
            <a:off x="1187280" y="6021360"/>
            <a:ext cx="340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+ 2Ag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2Ag + Cu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485640" y="4006800"/>
            <a:ext cx="480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(s) + 2AgN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2Ag(s) + Cu(N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4"/>
          <p:cNvSpPr/>
          <p:nvPr/>
        </p:nvSpPr>
        <p:spPr>
          <a:xfrm>
            <a:off x="179280" y="4869000"/>
            <a:ext cx="63374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ребро може да истисне цин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Ag 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слабије редукционо средство од цин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1258920" y="1557360"/>
            <a:ext cx="597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...Na...Mg...Al...Zn...Fe...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Cu...Ag...Au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6"/>
          <p:cNvSpPr/>
          <p:nvPr/>
        </p:nvSpPr>
        <p:spPr>
          <a:xfrm>
            <a:off x="6171840" y="20620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traight Connector 7"/>
          <p:cNvSpPr/>
          <p:nvPr/>
        </p:nvSpPr>
        <p:spPr>
          <a:xfrm flipV="1">
            <a:off x="4427640" y="1917720"/>
            <a:ext cx="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5" name="Straight Arrow Connector 8"/>
          <p:cNvCxnSpPr/>
          <p:nvPr/>
        </p:nvCxnSpPr>
        <p:spPr>
          <a:xfrm>
            <a:off x="1186920" y="1988640"/>
            <a:ext cx="547272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196" name="TextBox 9"/>
          <p:cNvSpPr/>
          <p:nvPr/>
        </p:nvSpPr>
        <p:spPr>
          <a:xfrm>
            <a:off x="4211640" y="22780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7" name="Picture 2" descr=""/>
          <p:cNvPicPr/>
          <p:nvPr/>
        </p:nvPicPr>
        <p:blipFill>
          <a:blip r:embed="rId1"/>
          <a:srcRect l="34586" t="39985" r="46600" b="30487"/>
          <a:stretch/>
        </p:blipFill>
        <p:spPr>
          <a:xfrm>
            <a:off x="6443640" y="3860640"/>
            <a:ext cx="2448000" cy="2160720"/>
          </a:xfrm>
          <a:prstGeom prst="rect">
            <a:avLst/>
          </a:prstGeom>
          <a:ln w="0">
            <a:noFill/>
          </a:ln>
        </p:spPr>
      </p:pic>
      <p:sp>
        <p:nvSpPr>
          <p:cNvPr id="1198" name="Straight Connector 11"/>
          <p:cNvSpPr/>
          <p:nvPr/>
        </p:nvSpPr>
        <p:spPr>
          <a:xfrm flipV="1">
            <a:off x="4500720" y="1196640"/>
            <a:ext cx="0" cy="2890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Straight Connector 12"/>
          <p:cNvSpPr/>
          <p:nvPr/>
        </p:nvSpPr>
        <p:spPr>
          <a:xfrm flipV="1">
            <a:off x="4356000" y="1196640"/>
            <a:ext cx="0" cy="2890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0" name="Straight Arrow Connector 13"/>
          <p:cNvCxnSpPr/>
          <p:nvPr/>
        </p:nvCxnSpPr>
        <p:spPr>
          <a:xfrm>
            <a:off x="4500360" y="1196640"/>
            <a:ext cx="172764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201" name="Straight Arrow Connector 14"/>
          <p:cNvCxnSpPr/>
          <p:nvPr/>
        </p:nvCxnSpPr>
        <p:spPr>
          <a:xfrm flipH="1">
            <a:off x="1978920" y="1196640"/>
            <a:ext cx="237708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202" name="Rectangle 1"/>
          <p:cNvSpPr/>
          <p:nvPr/>
        </p:nvSpPr>
        <p:spPr>
          <a:xfrm>
            <a:off x="403920" y="2138400"/>
            <a:ext cx="15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1"/>
          <p:cNvSpPr/>
          <p:nvPr/>
        </p:nvSpPr>
        <p:spPr>
          <a:xfrm>
            <a:off x="250920" y="100332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ји метали реагују са разблаженим киселинама уз истискивање водоник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2"/>
          <p:cNvSpPr/>
          <p:nvPr/>
        </p:nvSpPr>
        <p:spPr>
          <a:xfrm>
            <a:off x="179280" y="4941720"/>
            <a:ext cx="45720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ују са разблаженим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киселин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ј. с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ом уз истискивањ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3"/>
          <p:cNvSpPr/>
          <p:nvPr/>
        </p:nvSpPr>
        <p:spPr>
          <a:xfrm>
            <a:off x="5219640" y="494172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еагују са разблаженим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киселин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4"/>
          <p:cNvSpPr/>
          <p:nvPr/>
        </p:nvSpPr>
        <p:spPr>
          <a:xfrm>
            <a:off x="250920" y="393372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E) –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g/Mg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00 – (–2,36) = 2,36 V &gt;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5"/>
          <p:cNvSpPr/>
          <p:nvPr/>
        </p:nvSpPr>
        <p:spPr>
          <a:xfrm>
            <a:off x="5148360" y="395604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E) –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g/Ag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00 – 0,80 = –0,80 V &lt;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6"/>
          <p:cNvSpPr/>
          <p:nvPr/>
        </p:nvSpPr>
        <p:spPr>
          <a:xfrm>
            <a:off x="1116000" y="2452680"/>
            <a:ext cx="597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...Na...Mg...Al...Zn...Fe...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Cu...Ag...Au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7"/>
          <p:cNvSpPr/>
          <p:nvPr/>
        </p:nvSpPr>
        <p:spPr>
          <a:xfrm>
            <a:off x="6165360" y="2957400"/>
            <a:ext cx="78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Straight Connector 8"/>
          <p:cNvSpPr/>
          <p:nvPr/>
        </p:nvSpPr>
        <p:spPr>
          <a:xfrm flipV="1">
            <a:off x="4427640" y="2813040"/>
            <a:ext cx="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1" name="Straight Arrow Connector 9"/>
          <p:cNvCxnSpPr/>
          <p:nvPr/>
        </p:nvCxnSpPr>
        <p:spPr>
          <a:xfrm>
            <a:off x="1186920" y="2883960"/>
            <a:ext cx="547272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212" name="TextBox 10"/>
          <p:cNvSpPr/>
          <p:nvPr/>
        </p:nvSpPr>
        <p:spPr>
          <a:xfrm>
            <a:off x="4211640" y="31734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11"/>
          <p:cNvSpPr/>
          <p:nvPr/>
        </p:nvSpPr>
        <p:spPr>
          <a:xfrm>
            <a:off x="1638360" y="1628640"/>
            <a:ext cx="574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леменити метали    племенити мета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traight Connector 12"/>
          <p:cNvSpPr/>
          <p:nvPr/>
        </p:nvSpPr>
        <p:spPr>
          <a:xfrm flipV="1">
            <a:off x="4500720" y="2133720"/>
            <a:ext cx="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traight Connector 13"/>
          <p:cNvSpPr/>
          <p:nvPr/>
        </p:nvSpPr>
        <p:spPr>
          <a:xfrm flipV="1">
            <a:off x="4356000" y="2133720"/>
            <a:ext cx="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6" name="Straight Arrow Connector 14"/>
          <p:cNvCxnSpPr/>
          <p:nvPr/>
        </p:nvCxnSpPr>
        <p:spPr>
          <a:xfrm>
            <a:off x="4500360" y="2133360"/>
            <a:ext cx="172764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217" name="Straight Arrow Connector 15"/>
          <p:cNvCxnSpPr/>
          <p:nvPr/>
        </p:nvCxnSpPr>
        <p:spPr>
          <a:xfrm flipH="1">
            <a:off x="1978920" y="2133360"/>
            <a:ext cx="237708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218" name="Rectangle 16"/>
          <p:cNvSpPr/>
          <p:nvPr/>
        </p:nvSpPr>
        <p:spPr>
          <a:xfrm>
            <a:off x="5452560" y="3357720"/>
            <a:ext cx="236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менити мета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17"/>
          <p:cNvSpPr/>
          <p:nvPr/>
        </p:nvSpPr>
        <p:spPr>
          <a:xfrm>
            <a:off x="269640" y="3284640"/>
            <a:ext cx="263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леменити мета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18"/>
          <p:cNvSpPr/>
          <p:nvPr/>
        </p:nvSpPr>
        <p:spPr>
          <a:xfrm>
            <a:off x="144360" y="6165720"/>
            <a:ext cx="87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 ⇒ реакција се одиграва при стандардним условима (спонтана ј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1"/>
          <p:cNvSpPr/>
          <p:nvPr/>
        </p:nvSpPr>
        <p:spPr>
          <a:xfrm>
            <a:off x="182520" y="2708280"/>
            <a:ext cx="878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се оксидује ⇒ оксидациони број се повећава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⇒ редукционо сред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се редукује ⇒ оксидациони број се смањује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⇒ оксидационо сред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2"/>
          <p:cNvSpPr/>
          <p:nvPr/>
        </p:nvSpPr>
        <p:spPr>
          <a:xfrm>
            <a:off x="1116000" y="420516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KСИДАЦИ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ПОВЕЋАЊЕ ОKСИДАЦИОНОГ БРО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KЦИ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СМАЊЕЊЕ ОKСИДАЦИОНОГ БРО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255600" y="54482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 промене оксидационих бројева ⇒ није редокс реак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6"/>
          <p:cNvSpPr/>
          <p:nvPr/>
        </p:nvSpPr>
        <p:spPr>
          <a:xfrm>
            <a:off x="1908000" y="1693800"/>
            <a:ext cx="46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+  2HCl  → Zn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aight Connector 9"/>
          <p:cNvSpPr/>
          <p:nvPr/>
        </p:nvSpPr>
        <p:spPr>
          <a:xfrm>
            <a:off x="2127240" y="2239920"/>
            <a:ext cx="0" cy="289080"/>
          </a:xfrm>
          <a:prstGeom prst="line">
            <a:avLst/>
          </a:prstGeom>
          <a:ln w="22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traight Connector 10"/>
          <p:cNvSpPr/>
          <p:nvPr/>
        </p:nvSpPr>
        <p:spPr>
          <a:xfrm flipV="1">
            <a:off x="2124000" y="2528640"/>
            <a:ext cx="2524320" cy="3240"/>
          </a:xfrm>
          <a:prstGeom prst="line">
            <a:avLst/>
          </a:prstGeom>
          <a:ln w="22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0" name="Straight Arrow Connector 11"/>
          <p:cNvCxnSpPr/>
          <p:nvPr/>
        </p:nvCxnSpPr>
        <p:spPr>
          <a:xfrm flipV="1">
            <a:off x="4647960" y="2198160"/>
            <a:ext cx="1080" cy="33120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811" name="Straight Connector 12"/>
          <p:cNvSpPr/>
          <p:nvPr/>
        </p:nvSpPr>
        <p:spPr>
          <a:xfrm flipV="1">
            <a:off x="3203640" y="1204920"/>
            <a:ext cx="0" cy="28728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traight Connector 13"/>
          <p:cNvSpPr/>
          <p:nvPr/>
        </p:nvSpPr>
        <p:spPr>
          <a:xfrm>
            <a:off x="3203640" y="1204920"/>
            <a:ext cx="280656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3" name="Straight Arrow Connector 14"/>
          <p:cNvCxnSpPr/>
          <p:nvPr/>
        </p:nvCxnSpPr>
        <p:spPr>
          <a:xfrm flipH="1">
            <a:off x="6011280" y="1190520"/>
            <a:ext cx="14760" cy="33264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14" name="TextBox 15"/>
          <p:cNvSpPr/>
          <p:nvPr/>
        </p:nvSpPr>
        <p:spPr>
          <a:xfrm>
            <a:off x="2631960" y="21258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сид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6"/>
          <p:cNvSpPr/>
          <p:nvPr/>
        </p:nvSpPr>
        <p:spPr>
          <a:xfrm>
            <a:off x="3924360" y="11905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ду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21"/>
          <p:cNvSpPr/>
          <p:nvPr/>
        </p:nvSpPr>
        <p:spPr>
          <a:xfrm>
            <a:off x="2987640" y="1477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22"/>
          <p:cNvSpPr/>
          <p:nvPr/>
        </p:nvSpPr>
        <p:spPr>
          <a:xfrm>
            <a:off x="5867280" y="147780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28"/>
          <p:cNvSpPr/>
          <p:nvPr/>
        </p:nvSpPr>
        <p:spPr>
          <a:xfrm>
            <a:off x="2124000" y="1477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30"/>
          <p:cNvSpPr/>
          <p:nvPr/>
        </p:nvSpPr>
        <p:spPr>
          <a:xfrm>
            <a:off x="4427640" y="1509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31"/>
          <p:cNvSpPr/>
          <p:nvPr/>
        </p:nvSpPr>
        <p:spPr>
          <a:xfrm>
            <a:off x="1116000" y="6054840"/>
            <a:ext cx="590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 +  HCl  →  NaCl  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"/>
          <p:cNvSpPr/>
          <p:nvPr/>
        </p:nvSpPr>
        <p:spPr>
          <a:xfrm>
            <a:off x="197640" y="481176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2"/>
          <p:cNvSpPr/>
          <p:nvPr/>
        </p:nvSpPr>
        <p:spPr>
          <a:xfrm>
            <a:off x="179280" y="1773360"/>
            <a:ext cx="8964720" cy="31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они број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мера степена оксидације атома у супстан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 се арапским бројем изнад симбола еле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ила за одређивање оксидационих број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они број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елементарно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стањ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днак је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пр. за 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n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они број елемента у једноатомском јону једнак је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електрисању тог јона (нпр. за A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 O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–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2843280" y="96192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сидациони бро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Box 1"/>
          <p:cNvSpPr/>
          <p:nvPr/>
        </p:nvSpPr>
        <p:spPr>
          <a:xfrm>
            <a:off x="353160" y="1773360"/>
            <a:ext cx="8604000" cy="42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и елементи имају исти оксидациони број у СKОРО свим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им једињењи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е ПСЕ увек имају оксидациони број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е ПСЕ увек имају оксидациони број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век има оксидациони број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ично има оксидациони број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зузев у пероксидима и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окси-једињењима где 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ично има оксидациони број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зузев у хидридим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а где 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1"/>
          <p:cNvSpPr/>
          <p:nvPr/>
        </p:nvSpPr>
        <p:spPr>
          <a:xfrm>
            <a:off x="395280" y="1125360"/>
            <a:ext cx="8136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ир оксидационих броје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утралној супстанци једнак је 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шеатомском јону једнак је наелектрисању тог ј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2" descr=""/>
          <p:cNvPicPr/>
          <p:nvPr/>
        </p:nvPicPr>
        <p:blipFill>
          <a:blip r:embed="rId1"/>
          <a:stretch/>
        </p:blipFill>
        <p:spPr>
          <a:xfrm>
            <a:off x="1476360" y="3141720"/>
            <a:ext cx="53640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1"/>
          <p:cNvSpPr/>
          <p:nvPr/>
        </p:nvSpPr>
        <p:spPr>
          <a:xfrm>
            <a:off x="184320" y="16128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ристи се шема размене електрона; полуреакције се множе одговарајућим коефицијентима, да би се број примљених и размењених електрона изједначи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3"/>
          <p:cNvSpPr/>
          <p:nvPr/>
        </p:nvSpPr>
        <p:spPr>
          <a:xfrm>
            <a:off x="358920" y="1052640"/>
            <a:ext cx="59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 сређивања редокс реак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22"/>
          <p:cNvSpPr/>
          <p:nvPr/>
        </p:nvSpPr>
        <p:spPr>
          <a:xfrm>
            <a:off x="722160" y="3187800"/>
            <a:ext cx="46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+  HCl  → Zn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31"/>
          <p:cNvSpPr/>
          <p:nvPr/>
        </p:nvSpPr>
        <p:spPr>
          <a:xfrm>
            <a:off x="1685880" y="29638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2"/>
          <p:cNvSpPr/>
          <p:nvPr/>
        </p:nvSpPr>
        <p:spPr>
          <a:xfrm>
            <a:off x="4413240" y="2971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33"/>
          <p:cNvSpPr/>
          <p:nvPr/>
        </p:nvSpPr>
        <p:spPr>
          <a:xfrm>
            <a:off x="880920" y="2971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34"/>
          <p:cNvSpPr/>
          <p:nvPr/>
        </p:nvSpPr>
        <p:spPr>
          <a:xfrm>
            <a:off x="2989440" y="29923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41"/>
          <p:cNvSpPr/>
          <p:nvPr/>
        </p:nvSpPr>
        <p:spPr>
          <a:xfrm>
            <a:off x="5211720" y="4114800"/>
            <a:ext cx="296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оксидације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42"/>
          <p:cNvSpPr/>
          <p:nvPr/>
        </p:nvSpPr>
        <p:spPr>
          <a:xfrm>
            <a:off x="5211720" y="4683240"/>
            <a:ext cx="27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реду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"/>
          <p:cNvSpPr/>
          <p:nvPr/>
        </p:nvSpPr>
        <p:spPr>
          <a:xfrm>
            <a:off x="239760" y="31575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2"/>
          <p:cNvSpPr/>
          <p:nvPr/>
        </p:nvSpPr>
        <p:spPr>
          <a:xfrm>
            <a:off x="727200" y="5810400"/>
            <a:ext cx="46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+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 → Zn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31"/>
          <p:cNvSpPr/>
          <p:nvPr/>
        </p:nvSpPr>
        <p:spPr>
          <a:xfrm>
            <a:off x="1806480" y="559440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32"/>
          <p:cNvSpPr/>
          <p:nvPr/>
        </p:nvSpPr>
        <p:spPr>
          <a:xfrm>
            <a:off x="4618080" y="55944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33"/>
          <p:cNvSpPr/>
          <p:nvPr/>
        </p:nvSpPr>
        <p:spPr>
          <a:xfrm>
            <a:off x="942840" y="55944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34"/>
          <p:cNvSpPr/>
          <p:nvPr/>
        </p:nvSpPr>
        <p:spPr>
          <a:xfrm>
            <a:off x="3246480" y="5626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24" descr=""/>
          <p:cNvPicPr/>
          <p:nvPr/>
        </p:nvPicPr>
        <p:blipFill>
          <a:blip r:embed="rId1"/>
          <a:stretch/>
        </p:blipFill>
        <p:spPr>
          <a:xfrm>
            <a:off x="677880" y="4149720"/>
            <a:ext cx="44370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6:32:23Z</dcterms:created>
  <dc:creator>Rastko Vukicevic</dc:creator>
  <dc:description/>
  <dc:language>en-US</dc:language>
  <cp:lastModifiedBy>Corporate Edition</cp:lastModifiedBy>
  <dcterms:modified xsi:type="dcterms:W3CDTF">2017-10-05T20:14:45Z</dcterms:modified>
  <cp:revision>579</cp:revision>
  <dc:subject/>
  <dc:title>Slide 1</dc:title>
</cp:coreProperties>
</file>